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146-AC7E-4547-9338-EB56ADBD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47B-4E2D-4EB9-B2FC-578FBD86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FB0-5192-4516-969D-827EEE4E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557-44EA-4091-A481-39B14C43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7A8-35C1-417A-8160-BD029A91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FB9-0961-4699-83EF-98C0F0BA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D3A-CBC1-47CC-AC3C-5D87F617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AD3-4472-4058-AC2F-A1189184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FC7-978C-4FE9-A45A-20BC39F4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276-403C-4041-AFB0-A8D88A3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BCE-7AAC-4747-B90D-2378718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6EE-A8A9-4064-BF79-57EAF1DF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434-C6AC-4C35-B4A2-05E9A7198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STUDY PARTY POWERPOI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Unit 1 – Middle Eastern Geograp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 which country are the Gaza Strip and the West Bank loca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river runs through Syria, Israel, and Jord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ultiply 6"/>
          <p:cNvSpPr/>
          <p:nvPr/>
        </p:nvSpPr>
        <p:spPr>
          <a:xfrm>
            <a:off x="2438280" y="51814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ut of the different landforms we have studied, which is man made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an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9"/>
          <p:cNvSpPr/>
          <p:nvPr/>
        </p:nvSpPr>
        <p:spPr>
          <a:xfrm>
            <a:off x="1601640" y="3354480"/>
            <a:ext cx="74880" cy="379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ight Arrow 11"/>
          <p:cNvSpPr/>
          <p:nvPr/>
        </p:nvSpPr>
        <p:spPr>
          <a:xfrm rot="927600">
            <a:off x="855720" y="32968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ez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622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ich Middle Eastern country is  located in both Europe and As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ultiply 4"/>
          <p:cNvSpPr/>
          <p:nvPr/>
        </p:nvSpPr>
        <p:spPr>
          <a:xfrm>
            <a:off x="457200" y="3124080"/>
            <a:ext cx="609480" cy="685800"/>
          </a:xfrm>
          <a:custGeom>
            <a:avLst/>
            <a:gdLst/>
            <a:ahLst/>
            <a:rect l="l" t="t" r="r" b="b"/>
            <a:pathLst>
              <a:path w="609600" h="685800">
                <a:moveTo>
                  <a:pt x="92830" y="212340"/>
                </a:moveTo>
                <a:lnTo>
                  <a:pt x="199992" y="117084"/>
                </a:lnTo>
                <a:lnTo>
                  <a:pt x="304800" y="234994"/>
                </a:lnTo>
                <a:lnTo>
                  <a:pt x="409608" y="117084"/>
                </a:lnTo>
                <a:lnTo>
                  <a:pt x="516770" y="212340"/>
                </a:lnTo>
                <a:lnTo>
                  <a:pt x="400717" y="342900"/>
                </a:lnTo>
                <a:lnTo>
                  <a:pt x="516770" y="473460"/>
                </a:lnTo>
                <a:lnTo>
                  <a:pt x="409608" y="568716"/>
                </a:lnTo>
                <a:lnTo>
                  <a:pt x="304800" y="450806"/>
                </a:lnTo>
                <a:lnTo>
                  <a:pt x="199992" y="568716"/>
                </a:lnTo>
                <a:lnTo>
                  <a:pt x="92830" y="473460"/>
                </a:lnTo>
                <a:lnTo>
                  <a:pt x="208883" y="342900"/>
                </a:lnTo>
                <a:lnTo>
                  <a:pt x="92830" y="21234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5"/>
          <p:cNvSpPr/>
          <p:nvPr/>
        </p:nvSpPr>
        <p:spPr>
          <a:xfrm>
            <a:off x="990720" y="3352680"/>
            <a:ext cx="76176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Bevel 6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rae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body of water connects the Arabian Sea to the Persian Gul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533520" y="457200"/>
            <a:ext cx="8246880" cy="5924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4"/>
          <p:cNvSpPr/>
          <p:nvPr/>
        </p:nvSpPr>
        <p:spPr>
          <a:xfrm rot="9568200">
            <a:off x="1952640" y="2916000"/>
            <a:ext cx="533520" cy="13320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rdan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eets the Euphrates River in Iraq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alibri"/>
              </a:rPr>
              <a:t>Tigris River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06" name="Multiply 6"/>
          <p:cNvSpPr/>
          <p:nvPr/>
        </p:nvSpPr>
        <p:spPr>
          <a:xfrm>
            <a:off x="25909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Bevel 4"/>
          <p:cNvSpPr/>
          <p:nvPr/>
        </p:nvSpPr>
        <p:spPr>
          <a:xfrm rot="20938200">
            <a:off x="961920" y="4303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12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at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y of the largest cities in Southwest Asia are located on or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ntinents come together, or meet, in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sia, Africa, and Eur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body of water supplies Israel with most of its fresh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ad Sea is on the border of which two n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 &amp; Jord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largest country on the Arabian Peninsu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audi Arab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living in the deserts of the Middle East have usually made their living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rading and Herding 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climate of mos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r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Because mountains block winds coming from the oceans, much of the interior of Southwest Asia i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reasing population growth in Southwest Asia has increased the pollution of the water supply. Which industry has been directly affected by this pol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griculture (Farmin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oil production affect the standard of living in Southwest A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higher the oil production, the higher the standard of l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66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n a choice, where do people in Southwest Asia sett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 Vall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74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ordan River empties in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a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ight Arrow 5"/>
          <p:cNvSpPr/>
          <p:nvPr/>
        </p:nvSpPr>
        <p:spPr>
          <a:xfrm rot="8326200">
            <a:off x="5238360" y="38034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Bevel 6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465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country in the Middle East is land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the major rivers of Southwest Asia become a part of political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Building D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ountry shares a border with both the Mediterranean and the Black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lies to the west of Ir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4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ich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s south of Lebanon, west of Jordan and eas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ultiply 6"/>
          <p:cNvSpPr/>
          <p:nvPr/>
        </p:nvSpPr>
        <p:spPr>
          <a:xfrm>
            <a:off x="4267080" y="38098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Iran and Saudi Ara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Arrow 9"/>
          <p:cNvSpPr/>
          <p:nvPr/>
        </p:nvSpPr>
        <p:spPr>
          <a:xfrm rot="8326200">
            <a:off x="3180960" y="22032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Bevel 10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gris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physical feature could Iran block half the world’s petroleum from getting ou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outline map Middle East"/>
          <p:cNvPicPr/>
          <p:nvPr/>
        </p:nvPicPr>
        <p:blipFill>
          <a:blip r:embed="rId1"/>
          <a:stretch/>
        </p:blipFill>
        <p:spPr>
          <a:xfrm>
            <a:off x="0" y="38736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land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 rot="3151200">
            <a:off x="973800" y="3396240"/>
            <a:ext cx="914400" cy="465120"/>
          </a:xfrm>
          <a:prstGeom prst="ellipse">
            <a:avLst/>
          </a:prstGeom>
          <a:solidFill>
            <a:srgbClr val="ffcc66">
              <a:alpha val="2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Bevel 4"/>
          <p:cNvSpPr/>
          <p:nvPr/>
        </p:nvSpPr>
        <p:spPr>
          <a:xfrm rot="21186000">
            <a:off x="2513160" y="2857320"/>
            <a:ext cx="2514600" cy="1143000"/>
          </a:xfrm>
          <a:prstGeom prst="bevel">
            <a:avLst>
              <a:gd name="adj" fmla="val 816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ai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what country is the source of the Tigris and Euphrates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8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n the Middle East is to the south of the Caspian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58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Saudi Arabia and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bodies of water are connected by the Strait of Hormu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Arabian Sea and the Persian Gulf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64" name="Multiply 6"/>
          <p:cNvSpPr/>
          <p:nvPr/>
        </p:nvSpPr>
        <p:spPr>
          <a:xfrm>
            <a:off x="57913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it possible to get to the Mediterranean Sea from the Arabian Sea without having to sail around the continent of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Suez Can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0:22:45Z</dcterms:created>
  <dc:creator>e200702531</dc:creator>
  <dc:description/>
  <dc:language>en-US</dc:language>
  <cp:lastModifiedBy>Peets, Audrey</cp:lastModifiedBy>
  <dcterms:modified xsi:type="dcterms:W3CDTF">2012-05-29T17:53:51Z</dcterms:modified>
  <cp:revision>39</cp:revision>
  <dc:subject/>
  <dc:title>Which bodies of water are connected by the Strait of Hormuz</dc:title>
</cp:coreProperties>
</file>