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9C7-F078-4ED3-96A7-AE601A82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FF4-2420-48FD-8AB1-CD91AA15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D8BB-F3BC-49E1-9DF3-91154313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CBA-7A2C-4047-BF53-F31D307B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D59-07ED-4E1D-99D6-0D47A56B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01D-C4BD-43CB-A135-66E4EC89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177-13B7-4945-83E8-36DE4D4F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B5F-8320-4E94-B350-558A25DF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3B9-3963-4968-A056-F27600FF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4A0-2E44-41BD-9790-19E4FCA2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79B-CC29-4EAA-AF02-9E8556A7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C37-3910-4367-ACB7-4644F7CB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D458-B6D0-4BCB-9F27-1800E209A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STUDY PARTY POWERPOI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Unit 1 – Middle Eastern Geograph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 which country are the Gaza Strip and the West Bank locat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2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river runs through Syria, Israel, and Jord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Jordan Ri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Multiply 6"/>
          <p:cNvSpPr/>
          <p:nvPr/>
        </p:nvSpPr>
        <p:spPr>
          <a:xfrm>
            <a:off x="2438280" y="518148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Bevel 5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ut of the different landforms we have studied, which is man made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ana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7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9"/>
          <p:cNvSpPr/>
          <p:nvPr/>
        </p:nvSpPr>
        <p:spPr>
          <a:xfrm>
            <a:off x="1601640" y="3354480"/>
            <a:ext cx="74880" cy="379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ight Arrow 11"/>
          <p:cNvSpPr/>
          <p:nvPr/>
        </p:nvSpPr>
        <p:spPr>
          <a:xfrm rot="927600">
            <a:off x="855720" y="32968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Bevel 5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ez C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7622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ich Middle Eastern country is  located in both Europe and Asi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ultiply 4"/>
          <p:cNvSpPr/>
          <p:nvPr/>
        </p:nvSpPr>
        <p:spPr>
          <a:xfrm>
            <a:off x="457200" y="3124080"/>
            <a:ext cx="609480" cy="685800"/>
          </a:xfrm>
          <a:custGeom>
            <a:avLst/>
            <a:gdLst/>
            <a:ahLst/>
            <a:rect l="l" t="t" r="r" b="b"/>
            <a:pathLst>
              <a:path w="609600" h="685800">
                <a:moveTo>
                  <a:pt x="92830" y="212340"/>
                </a:moveTo>
                <a:lnTo>
                  <a:pt x="199992" y="117084"/>
                </a:lnTo>
                <a:lnTo>
                  <a:pt x="304800" y="234994"/>
                </a:lnTo>
                <a:lnTo>
                  <a:pt x="409608" y="117084"/>
                </a:lnTo>
                <a:lnTo>
                  <a:pt x="516770" y="212340"/>
                </a:lnTo>
                <a:lnTo>
                  <a:pt x="400717" y="342900"/>
                </a:lnTo>
                <a:lnTo>
                  <a:pt x="516770" y="473460"/>
                </a:lnTo>
                <a:lnTo>
                  <a:pt x="409608" y="568716"/>
                </a:lnTo>
                <a:lnTo>
                  <a:pt x="304800" y="450806"/>
                </a:lnTo>
                <a:lnTo>
                  <a:pt x="199992" y="568716"/>
                </a:lnTo>
                <a:lnTo>
                  <a:pt x="92830" y="473460"/>
                </a:lnTo>
                <a:lnTo>
                  <a:pt x="208883" y="342900"/>
                </a:lnTo>
                <a:lnTo>
                  <a:pt x="92830" y="21234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ight Arrow 5"/>
          <p:cNvSpPr/>
          <p:nvPr/>
        </p:nvSpPr>
        <p:spPr>
          <a:xfrm>
            <a:off x="990720" y="3352680"/>
            <a:ext cx="76176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Bevel 6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rael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body of water connects the Arabian Sea to the Persian Gul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trait of Hormuz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533520" y="457200"/>
            <a:ext cx="8246880" cy="59245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4"/>
          <p:cNvSpPr/>
          <p:nvPr/>
        </p:nvSpPr>
        <p:spPr>
          <a:xfrm rot="9568200">
            <a:off x="1952640" y="2916000"/>
            <a:ext cx="533520" cy="133200"/>
          </a:xfrm>
          <a:prstGeom prst="rightArrow">
            <a:avLst>
              <a:gd name="adj1" fmla="val 50000"/>
              <a:gd name="adj2" fmla="val 500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ordan Riv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ultiply 6"/>
          <p:cNvSpPr/>
          <p:nvPr/>
        </p:nvSpPr>
        <p:spPr>
          <a:xfrm>
            <a:off x="762120" y="2590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Bevel 5"/>
          <p:cNvSpPr/>
          <p:nvPr/>
        </p:nvSpPr>
        <p:spPr>
          <a:xfrm rot="314400">
            <a:off x="1584000" y="1060200"/>
            <a:ext cx="3243240" cy="146052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eets the Euphrates River in Iraq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Calibri"/>
              </a:rPr>
              <a:t>Tigris River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06" name="Multiply 6"/>
          <p:cNvSpPr/>
          <p:nvPr/>
        </p:nvSpPr>
        <p:spPr>
          <a:xfrm>
            <a:off x="2590920" y="2590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Bevel 4"/>
          <p:cNvSpPr/>
          <p:nvPr/>
        </p:nvSpPr>
        <p:spPr>
          <a:xfrm rot="20938200">
            <a:off x="961920" y="4303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Tigris and Euphrates Rivers run through which coun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12" name="Multiply 6"/>
          <p:cNvSpPr/>
          <p:nvPr/>
        </p:nvSpPr>
        <p:spPr>
          <a:xfrm>
            <a:off x="990720" y="1447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ez Canal is linked together by what two bodies of wat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editerranean Sea &amp; Red S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Multiply 6"/>
          <p:cNvSpPr/>
          <p:nvPr/>
        </p:nvSpPr>
        <p:spPr>
          <a:xfrm>
            <a:off x="4952880" y="6019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Bevel 5"/>
          <p:cNvSpPr/>
          <p:nvPr/>
        </p:nvSpPr>
        <p:spPr>
          <a:xfrm rot="21059400">
            <a:off x="836640" y="36190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ab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y of the largest cities in Southwest Asia are located on or 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iv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ntinents come together, or meet, in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Asia, Africa, and Eur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body of water supplies Israel with most of its fresh wa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Jordan Ri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ad Sea is on the border of which two n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 &amp; Jord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Tigris and Euphrates Rivers run through which coun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largest country on the Arabian Peninsul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audi Arab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Multiply 6"/>
          <p:cNvSpPr/>
          <p:nvPr/>
        </p:nvSpPr>
        <p:spPr>
          <a:xfrm>
            <a:off x="762120" y="2590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Bevel 5"/>
          <p:cNvSpPr/>
          <p:nvPr/>
        </p:nvSpPr>
        <p:spPr>
          <a:xfrm rot="314400">
            <a:off x="1584000" y="1060200"/>
            <a:ext cx="3243240" cy="146052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living in the deserts of the Middle East have usually made their living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rading and Herding 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climate of most of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r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Because mountains block winds coming from the oceans, much of the interior of Southwest Asia i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s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creasing population growth in Southwest Asia has increased the pollution of the water supply. Which industry has been directly affected by this pol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griculture (Farmin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oil production affect the standard of living in Southwest A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higher the oil production, the higher the standard of l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66" name="Multiply 6"/>
          <p:cNvSpPr/>
          <p:nvPr/>
        </p:nvSpPr>
        <p:spPr>
          <a:xfrm>
            <a:off x="4038480" y="25146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en a choice, where do people in Southwest Asia sett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iver Valle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74" name="Multiply 6"/>
          <p:cNvSpPr/>
          <p:nvPr/>
        </p:nvSpPr>
        <p:spPr>
          <a:xfrm>
            <a:off x="4038480" y="25146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Jordan River empties in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ad S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4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ight Arrow 5"/>
          <p:cNvSpPr/>
          <p:nvPr/>
        </p:nvSpPr>
        <p:spPr>
          <a:xfrm rot="8326200">
            <a:off x="5238360" y="380340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Bevel 6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465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rait of Horm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ch country in the Middle East is landl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fghanist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ave the major rivers of Southwest Asia become a part of political confli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Building Da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des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"/>
          <p:cNvSpPr/>
          <p:nvPr/>
        </p:nvSpPr>
        <p:spPr>
          <a:xfrm>
            <a:off x="2514600" y="4267080"/>
            <a:ext cx="2362320" cy="1219320"/>
          </a:xfrm>
          <a:prstGeom prst="ellipse">
            <a:avLst/>
          </a:prstGeom>
          <a:solidFill>
            <a:srgbClr val="ffcc66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Bevel 4"/>
          <p:cNvSpPr/>
          <p:nvPr/>
        </p:nvSpPr>
        <p:spPr>
          <a:xfrm rot="314400">
            <a:off x="2484360" y="2271240"/>
            <a:ext cx="3089520" cy="178128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b al Khali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country shares a border with both the Mediterranean and the Black S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lies to the west of Ir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4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ez Canal is linked together by which two bodies of wat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editerranean Sea &amp; Red S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is south of Lebanon, west of Jordan and eas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Multiply 6"/>
          <p:cNvSpPr/>
          <p:nvPr/>
        </p:nvSpPr>
        <p:spPr>
          <a:xfrm>
            <a:off x="4267080" y="380988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rsian Gu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body of water is in-between Iran and Saudi Arab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ersian Gu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2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Arrow 9"/>
          <p:cNvSpPr/>
          <p:nvPr/>
        </p:nvSpPr>
        <p:spPr>
          <a:xfrm rot="8326200">
            <a:off x="3180960" y="220320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Bevel 10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gris Riv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3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physical feature could Iran block half the world’s petroleum from getting out of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trait of Hormu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outline map Middle East"/>
          <p:cNvPicPr/>
          <p:nvPr/>
        </p:nvPicPr>
        <p:blipFill>
          <a:blip r:embed="rId1"/>
          <a:stretch/>
        </p:blipFill>
        <p:spPr>
          <a:xfrm>
            <a:off x="0" y="38736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land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7"/>
          <p:cNvSpPr/>
          <p:nvPr/>
        </p:nvSpPr>
        <p:spPr>
          <a:xfrm rot="3151200">
            <a:off x="973800" y="3396240"/>
            <a:ext cx="914400" cy="465120"/>
          </a:xfrm>
          <a:prstGeom prst="ellipse">
            <a:avLst/>
          </a:prstGeom>
          <a:solidFill>
            <a:srgbClr val="ffcc66">
              <a:alpha val="2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Bevel 4"/>
          <p:cNvSpPr/>
          <p:nvPr/>
        </p:nvSpPr>
        <p:spPr>
          <a:xfrm rot="21186000">
            <a:off x="2513160" y="2857320"/>
            <a:ext cx="2514600" cy="1143000"/>
          </a:xfrm>
          <a:prstGeom prst="bevel">
            <a:avLst>
              <a:gd name="adj" fmla="val 816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ai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what country is the source of the Tigris and Euphrates R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77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2" dur="77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4" dur="77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6" dur="77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ultiply 6"/>
          <p:cNvSpPr/>
          <p:nvPr/>
        </p:nvSpPr>
        <p:spPr>
          <a:xfrm>
            <a:off x="4952880" y="6019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Bevel 5"/>
          <p:cNvSpPr/>
          <p:nvPr/>
        </p:nvSpPr>
        <p:spPr>
          <a:xfrm rot="21059400">
            <a:off x="836640" y="36190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ab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in the Middle East is to the south of the Caspian S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258" name="Multiply 6"/>
          <p:cNvSpPr/>
          <p:nvPr/>
        </p:nvSpPr>
        <p:spPr>
          <a:xfrm>
            <a:off x="990720" y="1447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body of water is in-between Saudi Arabia and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ed S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des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"/>
          <p:cNvSpPr/>
          <p:nvPr/>
        </p:nvSpPr>
        <p:spPr>
          <a:xfrm>
            <a:off x="2514600" y="4267080"/>
            <a:ext cx="2362320" cy="1219320"/>
          </a:xfrm>
          <a:prstGeom prst="ellipse">
            <a:avLst/>
          </a:prstGeom>
          <a:solidFill>
            <a:srgbClr val="ffcc66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Bevel 4"/>
          <p:cNvSpPr/>
          <p:nvPr/>
        </p:nvSpPr>
        <p:spPr>
          <a:xfrm rot="314400">
            <a:off x="2484360" y="2271240"/>
            <a:ext cx="3089520" cy="178128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b al Khali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bodies of water are connected by the Strait of Hormu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e Arabian Sea and the Persian Gulf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64" name="Multiply 6"/>
          <p:cNvSpPr/>
          <p:nvPr/>
        </p:nvSpPr>
        <p:spPr>
          <a:xfrm>
            <a:off x="5791320" y="2590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gha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akes it possible to get to the Mediterranean Sea from the Arabian Sea without having to sail around the continent of Af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e Suez Can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20:22:45Z</dcterms:created>
  <dc:creator>e200702531</dc:creator>
  <dc:description/>
  <dc:language>en-US</dc:language>
  <cp:lastModifiedBy>Peets, Audrey</cp:lastModifiedBy>
  <dcterms:modified xsi:type="dcterms:W3CDTF">2012-05-29T17:53:51Z</dcterms:modified>
  <cp:revision>39</cp:revision>
  <dc:subject/>
  <dc:title>Which bodies of water are connected by the Strait of Hormuz</dc:title>
</cp:coreProperties>
</file>