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1D6A-4D14-4722-BE6E-BD33BE8D2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FAE2-4F3C-46C1-9AC1-C7D1F0490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9F9E-8F56-4524-8B1B-087E54228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C1C9-6C24-4E76-92BC-56D4853CE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71DD-9B61-4F16-8268-9692A2F7B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0A1B-502D-4269-9ECB-27BBAC494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3113-E524-406B-B0A6-CDB56213D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95BF-A8E2-45FB-BFC0-915A5DCEA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9955-51B9-437B-9D4C-1720D5FA9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BDF0-5090-41AA-BA9B-060475F9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0AFF-6756-4720-A1E2-26D8FEDB8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D121-D266-44D8-AD39-C61AEF289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89B68-E333-4AF4-B48E-B7A5C77CDB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erlin Sans FB Demi"/>
              </a:rPr>
              <a:t>STUDY PARTY POWERPOIN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erlin Sans FB Demi"/>
              </a:rPr>
              <a:t>Unit 1 – Middle Eastern Geograph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n which country are the Gaza Strip and the West Bank located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Israel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9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4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4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http://www.geointeractive.co.uk/outline%20maps/middleeastmap.gif"/>
          <p:cNvPicPr/>
          <p:nvPr/>
        </p:nvPicPr>
        <p:blipFill>
          <a:blip r:embed="rId1"/>
          <a:stretch/>
        </p:blipFill>
        <p:spPr>
          <a:xfrm>
            <a:off x="457200" y="476280"/>
            <a:ext cx="8247240" cy="59245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72" name="TextBox 7"/>
          <p:cNvSpPr/>
          <p:nvPr/>
        </p:nvSpPr>
        <p:spPr>
          <a:xfrm>
            <a:off x="5943600" y="5181480"/>
            <a:ext cx="205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riv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6"/>
          <p:cNvSpPr/>
          <p:nvPr/>
        </p:nvSpPr>
        <p:spPr>
          <a:xfrm>
            <a:off x="2209680" y="1600200"/>
            <a:ext cx="1592280" cy="1871640"/>
          </a:xfrm>
          <a:custGeom>
            <a:avLst/>
            <a:gdLst/>
            <a:ahLst/>
            <a:rect l="l" t="t" r="r" b="b"/>
            <a:pathLst>
              <a:path w="1592688" h="1871730">
                <a:moveTo>
                  <a:pt x="266163" y="0"/>
                </a:moveTo>
                <a:cubicBezTo>
                  <a:pt x="206062" y="134155"/>
                  <a:pt x="145961" y="268310"/>
                  <a:pt x="124496" y="360608"/>
                </a:cubicBezTo>
                <a:cubicBezTo>
                  <a:pt x="103031" y="452906"/>
                  <a:pt x="156692" y="476518"/>
                  <a:pt x="137374" y="553791"/>
                </a:cubicBezTo>
                <a:cubicBezTo>
                  <a:pt x="118056" y="631064"/>
                  <a:pt x="0" y="731949"/>
                  <a:pt x="8586" y="824248"/>
                </a:cubicBezTo>
                <a:cubicBezTo>
                  <a:pt x="17172" y="916547"/>
                  <a:pt x="103031" y="1043189"/>
                  <a:pt x="188890" y="1107583"/>
                </a:cubicBezTo>
                <a:cubicBezTo>
                  <a:pt x="274749" y="1171977"/>
                  <a:pt x="429296" y="1176270"/>
                  <a:pt x="523741" y="1210614"/>
                </a:cubicBezTo>
                <a:cubicBezTo>
                  <a:pt x="618186" y="1244958"/>
                  <a:pt x="691166" y="1257837"/>
                  <a:pt x="755560" y="1313645"/>
                </a:cubicBezTo>
                <a:cubicBezTo>
                  <a:pt x="819954" y="1369454"/>
                  <a:pt x="871470" y="1491803"/>
                  <a:pt x="910107" y="1545465"/>
                </a:cubicBezTo>
                <a:cubicBezTo>
                  <a:pt x="948744" y="1599127"/>
                  <a:pt x="938011" y="1586248"/>
                  <a:pt x="987380" y="1635617"/>
                </a:cubicBezTo>
                <a:cubicBezTo>
                  <a:pt x="1036749" y="1684986"/>
                  <a:pt x="1114022" y="1811628"/>
                  <a:pt x="1206321" y="1841679"/>
                </a:cubicBezTo>
                <a:cubicBezTo>
                  <a:pt x="1298620" y="1871730"/>
                  <a:pt x="1489657" y="1822361"/>
                  <a:pt x="1541172" y="1815921"/>
                </a:cubicBezTo>
                <a:cubicBezTo>
                  <a:pt x="1592688" y="1809482"/>
                  <a:pt x="1554051" y="1806262"/>
                  <a:pt x="1515414" y="1803042"/>
                </a:cubicBezTo>
              </a:path>
            </a:pathLst>
          </a:custGeom>
          <a:noFill/>
          <a:ln w="349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8"/>
          <p:cNvSpPr/>
          <p:nvPr/>
        </p:nvSpPr>
        <p:spPr>
          <a:xfrm>
            <a:off x="2452680" y="1455840"/>
            <a:ext cx="1449360" cy="2047680"/>
          </a:xfrm>
          <a:custGeom>
            <a:avLst/>
            <a:gdLst/>
            <a:ahLst/>
            <a:rect l="l" t="t" r="r" b="b"/>
            <a:pathLst>
              <a:path w="1448873" h="2047741">
                <a:moveTo>
                  <a:pt x="444320" y="0"/>
                </a:moveTo>
                <a:cubicBezTo>
                  <a:pt x="406757" y="26831"/>
                  <a:pt x="369194" y="53662"/>
                  <a:pt x="328411" y="77273"/>
                </a:cubicBezTo>
                <a:cubicBezTo>
                  <a:pt x="287628" y="100884"/>
                  <a:pt x="253284" y="128788"/>
                  <a:pt x="199622" y="141667"/>
                </a:cubicBezTo>
                <a:cubicBezTo>
                  <a:pt x="145960" y="154546"/>
                  <a:pt x="0" y="135228"/>
                  <a:pt x="6439" y="154546"/>
                </a:cubicBezTo>
                <a:cubicBezTo>
                  <a:pt x="12878" y="173864"/>
                  <a:pt x="191037" y="223233"/>
                  <a:pt x="238259" y="257577"/>
                </a:cubicBezTo>
                <a:cubicBezTo>
                  <a:pt x="285482" y="291921"/>
                  <a:pt x="253284" y="326264"/>
                  <a:pt x="289774" y="360608"/>
                </a:cubicBezTo>
                <a:cubicBezTo>
                  <a:pt x="326264" y="394952"/>
                  <a:pt x="420709" y="399245"/>
                  <a:pt x="457199" y="463639"/>
                </a:cubicBezTo>
                <a:cubicBezTo>
                  <a:pt x="493689" y="528033"/>
                  <a:pt x="476518" y="678287"/>
                  <a:pt x="508715" y="746974"/>
                </a:cubicBezTo>
                <a:cubicBezTo>
                  <a:pt x="540912" y="815661"/>
                  <a:pt x="605306" y="817808"/>
                  <a:pt x="650382" y="875763"/>
                </a:cubicBezTo>
                <a:cubicBezTo>
                  <a:pt x="695458" y="933718"/>
                  <a:pt x="751267" y="1017431"/>
                  <a:pt x="779171" y="1094704"/>
                </a:cubicBezTo>
                <a:cubicBezTo>
                  <a:pt x="807075" y="1171977"/>
                  <a:pt x="804929" y="1279301"/>
                  <a:pt x="817808" y="1339402"/>
                </a:cubicBezTo>
                <a:cubicBezTo>
                  <a:pt x="830687" y="1399503"/>
                  <a:pt x="830686" y="1412382"/>
                  <a:pt x="856444" y="1455312"/>
                </a:cubicBezTo>
                <a:cubicBezTo>
                  <a:pt x="882202" y="1498242"/>
                  <a:pt x="938010" y="1558343"/>
                  <a:pt x="972354" y="1596980"/>
                </a:cubicBezTo>
                <a:cubicBezTo>
                  <a:pt x="1006698" y="1635617"/>
                  <a:pt x="1043188" y="1659228"/>
                  <a:pt x="1062506" y="1687132"/>
                </a:cubicBezTo>
                <a:cubicBezTo>
                  <a:pt x="1081824" y="1715036"/>
                  <a:pt x="1064653" y="1742940"/>
                  <a:pt x="1088264" y="1764405"/>
                </a:cubicBezTo>
                <a:cubicBezTo>
                  <a:pt x="1111875" y="1785870"/>
                  <a:pt x="1174123" y="1785870"/>
                  <a:pt x="1204174" y="1815921"/>
                </a:cubicBezTo>
                <a:cubicBezTo>
                  <a:pt x="1234225" y="1845972"/>
                  <a:pt x="1227785" y="1906073"/>
                  <a:pt x="1268568" y="1944710"/>
                </a:cubicBezTo>
                <a:cubicBezTo>
                  <a:pt x="1309351" y="1983347"/>
                  <a:pt x="1448873" y="2047741"/>
                  <a:pt x="1448873" y="2047741"/>
                </a:cubicBezTo>
                <a:lnTo>
                  <a:pt x="1448873" y="2047741"/>
                </a:lnTo>
              </a:path>
            </a:pathLst>
          </a:custGeom>
          <a:noFill/>
          <a:ln w="349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ight Arrow 9"/>
          <p:cNvSpPr/>
          <p:nvPr/>
        </p:nvSpPr>
        <p:spPr>
          <a:xfrm>
            <a:off x="2209680" y="2895480"/>
            <a:ext cx="762120" cy="22860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Bevel 10"/>
          <p:cNvSpPr/>
          <p:nvPr/>
        </p:nvSpPr>
        <p:spPr>
          <a:xfrm rot="21059400">
            <a:off x="836640" y="4228920"/>
            <a:ext cx="2514600" cy="1143000"/>
          </a:xfrm>
          <a:prstGeom prst="bevel">
            <a:avLst>
              <a:gd name="adj" fmla="val 9338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uphrates 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at river runs through Syria, Israel, and Jorda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Jordan Rive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outline map Middle East"/>
          <p:cNvPicPr/>
          <p:nvPr/>
        </p:nvPicPr>
        <p:blipFill>
          <a:blip r:embed="rId1"/>
          <a:stretch/>
        </p:blipFill>
        <p:spPr>
          <a:xfrm>
            <a:off x="304920" y="304920"/>
            <a:ext cx="8737560" cy="6470640"/>
          </a:xfrm>
          <a:prstGeom prst="rect">
            <a:avLst/>
          </a:prstGeom>
          <a:ln w="0">
            <a:noFill/>
          </a:ln>
        </p:spPr>
      </p:pic>
      <p:sp>
        <p:nvSpPr>
          <p:cNvPr id="80" name="TextBox 4"/>
          <p:cNvSpPr/>
          <p:nvPr/>
        </p:nvSpPr>
        <p:spPr>
          <a:xfrm>
            <a:off x="6019920" y="4724280"/>
            <a:ext cx="2057400" cy="180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body of wa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Multiply 6"/>
          <p:cNvSpPr/>
          <p:nvPr/>
        </p:nvSpPr>
        <p:spPr>
          <a:xfrm>
            <a:off x="2438280" y="5181480"/>
            <a:ext cx="457200" cy="533520"/>
          </a:xfrm>
          <a:custGeom>
            <a:avLst/>
            <a:gdLst/>
            <a:ahLst/>
            <a:rect l="l" t="t" r="r" b="b"/>
            <a:pathLst>
              <a:path w="457200" h="533400">
                <a:moveTo>
                  <a:pt x="68985" y="163100"/>
                </a:moveTo>
                <a:lnTo>
                  <a:pt x="150631" y="93118"/>
                </a:lnTo>
                <a:lnTo>
                  <a:pt x="228600" y="184083"/>
                </a:lnTo>
                <a:lnTo>
                  <a:pt x="306569" y="93118"/>
                </a:lnTo>
                <a:lnTo>
                  <a:pt x="388215" y="163100"/>
                </a:lnTo>
                <a:lnTo>
                  <a:pt x="299415" y="266700"/>
                </a:lnTo>
                <a:lnTo>
                  <a:pt x="388215" y="370300"/>
                </a:lnTo>
                <a:lnTo>
                  <a:pt x="306569" y="440282"/>
                </a:lnTo>
                <a:lnTo>
                  <a:pt x="228600" y="349317"/>
                </a:lnTo>
                <a:lnTo>
                  <a:pt x="150631" y="440282"/>
                </a:lnTo>
                <a:lnTo>
                  <a:pt x="68985" y="370300"/>
                </a:lnTo>
                <a:lnTo>
                  <a:pt x="157785" y="266700"/>
                </a:lnTo>
                <a:lnTo>
                  <a:pt x="68985" y="1631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Bevel 5"/>
          <p:cNvSpPr/>
          <p:nvPr/>
        </p:nvSpPr>
        <p:spPr>
          <a:xfrm rot="314400">
            <a:off x="2513160" y="2857680"/>
            <a:ext cx="2514600" cy="1143000"/>
          </a:xfrm>
          <a:prstGeom prst="bevel">
            <a:avLst>
              <a:gd name="adj" fmla="val 20468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d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Out of the different landforms we have studied, which is man made?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Canal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outline map Middle East"/>
          <p:cNvPicPr/>
          <p:nvPr/>
        </p:nvPicPr>
        <p:blipFill>
          <a:blip r:embed="rId1"/>
          <a:stretch/>
        </p:blipFill>
        <p:spPr>
          <a:xfrm>
            <a:off x="304920" y="304920"/>
            <a:ext cx="8737560" cy="6470640"/>
          </a:xfrm>
          <a:prstGeom prst="rect">
            <a:avLst/>
          </a:prstGeom>
          <a:ln w="0">
            <a:noFill/>
          </a:ln>
        </p:spPr>
      </p:pic>
      <p:sp>
        <p:nvSpPr>
          <p:cNvPr id="86" name="TextBox 4"/>
          <p:cNvSpPr/>
          <p:nvPr/>
        </p:nvSpPr>
        <p:spPr>
          <a:xfrm>
            <a:off x="6019920" y="4724280"/>
            <a:ext cx="2057400" cy="180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body of wa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traight Connector 9"/>
          <p:cNvSpPr/>
          <p:nvPr/>
        </p:nvSpPr>
        <p:spPr>
          <a:xfrm>
            <a:off x="1601640" y="3354480"/>
            <a:ext cx="74880" cy="37944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ight Arrow 11"/>
          <p:cNvSpPr/>
          <p:nvPr/>
        </p:nvSpPr>
        <p:spPr>
          <a:xfrm rot="927600">
            <a:off x="855720" y="3296880"/>
            <a:ext cx="762120" cy="22860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Bevel 5"/>
          <p:cNvSpPr/>
          <p:nvPr/>
        </p:nvSpPr>
        <p:spPr>
          <a:xfrm rot="314400">
            <a:off x="2513160" y="2857680"/>
            <a:ext cx="2514600" cy="1143000"/>
          </a:xfrm>
          <a:prstGeom prst="bevel">
            <a:avLst>
              <a:gd name="adj" fmla="val 20468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uez Ca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76228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ich Middle Eastern country is  located in both Europe and Asi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Turke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http://www.geointeractive.co.uk/outline%20maps/middleeastmap.gif"/>
          <p:cNvPicPr/>
          <p:nvPr/>
        </p:nvPicPr>
        <p:blipFill>
          <a:blip r:embed="rId1"/>
          <a:stretch/>
        </p:blipFill>
        <p:spPr>
          <a:xfrm>
            <a:off x="457200" y="476280"/>
            <a:ext cx="8247240" cy="5924520"/>
          </a:xfrm>
          <a:prstGeom prst="rect">
            <a:avLst/>
          </a:prstGeom>
          <a:ln w="0">
            <a:noFill/>
          </a:ln>
        </p:spPr>
      </p:pic>
      <p:sp>
        <p:nvSpPr>
          <p:cNvPr id="93" name="TextBox 7"/>
          <p:cNvSpPr/>
          <p:nvPr/>
        </p:nvSpPr>
        <p:spPr>
          <a:xfrm>
            <a:off x="5943600" y="5181480"/>
            <a:ext cx="205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count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Multiply 4"/>
          <p:cNvSpPr/>
          <p:nvPr/>
        </p:nvSpPr>
        <p:spPr>
          <a:xfrm>
            <a:off x="457200" y="3124080"/>
            <a:ext cx="609480" cy="685800"/>
          </a:xfrm>
          <a:custGeom>
            <a:avLst/>
            <a:gdLst/>
            <a:ahLst/>
            <a:rect l="l" t="t" r="r" b="b"/>
            <a:pathLst>
              <a:path w="609600" h="685800">
                <a:moveTo>
                  <a:pt x="92830" y="212340"/>
                </a:moveTo>
                <a:lnTo>
                  <a:pt x="199992" y="117084"/>
                </a:lnTo>
                <a:lnTo>
                  <a:pt x="304800" y="234994"/>
                </a:lnTo>
                <a:lnTo>
                  <a:pt x="409608" y="117084"/>
                </a:lnTo>
                <a:lnTo>
                  <a:pt x="516770" y="212340"/>
                </a:lnTo>
                <a:lnTo>
                  <a:pt x="400717" y="342900"/>
                </a:lnTo>
                <a:lnTo>
                  <a:pt x="516770" y="473460"/>
                </a:lnTo>
                <a:lnTo>
                  <a:pt x="409608" y="568716"/>
                </a:lnTo>
                <a:lnTo>
                  <a:pt x="304800" y="450806"/>
                </a:lnTo>
                <a:lnTo>
                  <a:pt x="199992" y="568716"/>
                </a:lnTo>
                <a:lnTo>
                  <a:pt x="92830" y="473460"/>
                </a:lnTo>
                <a:lnTo>
                  <a:pt x="208883" y="342900"/>
                </a:lnTo>
                <a:lnTo>
                  <a:pt x="92830" y="21234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ight Arrow 5"/>
          <p:cNvSpPr/>
          <p:nvPr/>
        </p:nvSpPr>
        <p:spPr>
          <a:xfrm>
            <a:off x="990720" y="3352680"/>
            <a:ext cx="761760" cy="228600"/>
          </a:xfrm>
          <a:prstGeom prst="rightArrow">
            <a:avLst>
              <a:gd name="adj1" fmla="val 50000"/>
              <a:gd name="adj2" fmla="val 49984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Bevel 6"/>
          <p:cNvSpPr/>
          <p:nvPr/>
        </p:nvSpPr>
        <p:spPr>
          <a:xfrm rot="314400">
            <a:off x="2513160" y="2857680"/>
            <a:ext cx="2514600" cy="1143000"/>
          </a:xfrm>
          <a:prstGeom prst="bevel">
            <a:avLst>
              <a:gd name="adj" fmla="val 20468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srael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hat body of water connects the Arabian Sea to the Persian Gulf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Strait of Hormuz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http://www.geointeractive.co.uk/outline%20maps/middleeastmap.gif"/>
          <p:cNvPicPr/>
          <p:nvPr/>
        </p:nvPicPr>
        <p:blipFill>
          <a:blip r:embed="rId1"/>
          <a:stretch/>
        </p:blipFill>
        <p:spPr>
          <a:xfrm>
            <a:off x="533520" y="457200"/>
            <a:ext cx="8246880" cy="592452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5943600" y="5181480"/>
            <a:ext cx="205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riv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ight Arrow 4"/>
          <p:cNvSpPr/>
          <p:nvPr/>
        </p:nvSpPr>
        <p:spPr>
          <a:xfrm rot="9568200">
            <a:off x="1952640" y="2916000"/>
            <a:ext cx="533520" cy="133200"/>
          </a:xfrm>
          <a:prstGeom prst="rightArrow">
            <a:avLst>
              <a:gd name="adj1" fmla="val 50000"/>
              <a:gd name="adj2" fmla="val 50068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Bevel 5"/>
          <p:cNvSpPr/>
          <p:nvPr/>
        </p:nvSpPr>
        <p:spPr>
          <a:xfrm rot="314400">
            <a:off x="961920" y="4303800"/>
            <a:ext cx="2514600" cy="1143000"/>
          </a:xfrm>
          <a:prstGeom prst="bevel">
            <a:avLst>
              <a:gd name="adj" fmla="val 20468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Jordan River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outline map Middle East"/>
          <p:cNvPicPr/>
          <p:nvPr/>
        </p:nvPicPr>
        <p:blipFill>
          <a:blip r:embed="rId1"/>
          <a:stretch/>
        </p:blipFill>
        <p:spPr>
          <a:xfrm>
            <a:off x="304920" y="304920"/>
            <a:ext cx="8737560" cy="647064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6019920" y="4724280"/>
            <a:ext cx="2057400" cy="180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body of wa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Multiply 6"/>
          <p:cNvSpPr/>
          <p:nvPr/>
        </p:nvSpPr>
        <p:spPr>
          <a:xfrm>
            <a:off x="762120" y="2590920"/>
            <a:ext cx="457200" cy="533160"/>
          </a:xfrm>
          <a:custGeom>
            <a:avLst/>
            <a:gdLst/>
            <a:ahLst/>
            <a:rect l="l" t="t" r="r" b="b"/>
            <a:pathLst>
              <a:path w="457200" h="533400">
                <a:moveTo>
                  <a:pt x="68985" y="163100"/>
                </a:moveTo>
                <a:lnTo>
                  <a:pt x="150631" y="93118"/>
                </a:lnTo>
                <a:lnTo>
                  <a:pt x="228600" y="184083"/>
                </a:lnTo>
                <a:lnTo>
                  <a:pt x="306569" y="93118"/>
                </a:lnTo>
                <a:lnTo>
                  <a:pt x="388215" y="163100"/>
                </a:lnTo>
                <a:lnTo>
                  <a:pt x="299415" y="266700"/>
                </a:lnTo>
                <a:lnTo>
                  <a:pt x="388215" y="370300"/>
                </a:lnTo>
                <a:lnTo>
                  <a:pt x="306569" y="440282"/>
                </a:lnTo>
                <a:lnTo>
                  <a:pt x="228600" y="349317"/>
                </a:lnTo>
                <a:lnTo>
                  <a:pt x="150631" y="440282"/>
                </a:lnTo>
                <a:lnTo>
                  <a:pt x="68985" y="370300"/>
                </a:lnTo>
                <a:lnTo>
                  <a:pt x="157785" y="266700"/>
                </a:lnTo>
                <a:lnTo>
                  <a:pt x="68985" y="1631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Bevel 5"/>
          <p:cNvSpPr/>
          <p:nvPr/>
        </p:nvSpPr>
        <p:spPr>
          <a:xfrm rot="314400">
            <a:off x="1584000" y="1060200"/>
            <a:ext cx="3243240" cy="1460520"/>
          </a:xfrm>
          <a:prstGeom prst="bevel">
            <a:avLst>
              <a:gd name="adj" fmla="val 20468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editerranean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 meets the Euphrates River in Iraq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lvl="1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ff"/>
                </a:solidFill>
                <a:latin typeface="Calibri"/>
              </a:rPr>
              <a:t>Tigris River</a:t>
            </a: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31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http://www.geointeractive.co.uk/outline%20maps/middleeastmap.gif"/>
          <p:cNvPicPr/>
          <p:nvPr/>
        </p:nvPicPr>
        <p:blipFill>
          <a:blip r:embed="rId1"/>
          <a:stretch/>
        </p:blipFill>
        <p:spPr>
          <a:xfrm>
            <a:off x="457200" y="476280"/>
            <a:ext cx="8247240" cy="5924520"/>
          </a:xfrm>
          <a:prstGeom prst="rect">
            <a:avLst/>
          </a:prstGeom>
          <a:ln w="0">
            <a:noFill/>
          </a:ln>
        </p:spPr>
      </p:pic>
      <p:sp>
        <p:nvSpPr>
          <p:cNvPr id="106" name="Multiply 6"/>
          <p:cNvSpPr/>
          <p:nvPr/>
        </p:nvSpPr>
        <p:spPr>
          <a:xfrm>
            <a:off x="2590920" y="259092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43578" y="295654"/>
                </a:moveTo>
                <a:lnTo>
                  <a:pt x="295654" y="143578"/>
                </a:lnTo>
                <a:lnTo>
                  <a:pt x="457200" y="305125"/>
                </a:lnTo>
                <a:lnTo>
                  <a:pt x="618746" y="143578"/>
                </a:lnTo>
                <a:lnTo>
                  <a:pt x="770822" y="295654"/>
                </a:lnTo>
                <a:lnTo>
                  <a:pt x="609275" y="457200"/>
                </a:lnTo>
                <a:lnTo>
                  <a:pt x="770822" y="618746"/>
                </a:lnTo>
                <a:lnTo>
                  <a:pt x="618746" y="770822"/>
                </a:lnTo>
                <a:lnTo>
                  <a:pt x="457200" y="609275"/>
                </a:lnTo>
                <a:lnTo>
                  <a:pt x="295654" y="770822"/>
                </a:lnTo>
                <a:lnTo>
                  <a:pt x="143578" y="618746"/>
                </a:lnTo>
                <a:lnTo>
                  <a:pt x="305125" y="457200"/>
                </a:lnTo>
                <a:lnTo>
                  <a:pt x="143578" y="295654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"/>
          <p:cNvSpPr/>
          <p:nvPr/>
        </p:nvSpPr>
        <p:spPr>
          <a:xfrm>
            <a:off x="5943600" y="5181480"/>
            <a:ext cx="205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count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Bevel 4"/>
          <p:cNvSpPr/>
          <p:nvPr/>
        </p:nvSpPr>
        <p:spPr>
          <a:xfrm rot="20938200">
            <a:off x="961920" y="4303440"/>
            <a:ext cx="2514600" cy="1143000"/>
          </a:xfrm>
          <a:prstGeom prst="bevel">
            <a:avLst>
              <a:gd name="adj" fmla="val 20468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ra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Tigris and Euphrates Rivers run through which count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Iraq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http://www.geointeractive.co.uk/outline%20maps/middleeastmap.gif"/>
          <p:cNvPicPr/>
          <p:nvPr/>
        </p:nvPicPr>
        <p:blipFill>
          <a:blip r:embed="rId1"/>
          <a:stretch/>
        </p:blipFill>
        <p:spPr>
          <a:xfrm>
            <a:off x="457200" y="476280"/>
            <a:ext cx="8247240" cy="5924520"/>
          </a:xfrm>
          <a:prstGeom prst="rect">
            <a:avLst/>
          </a:prstGeom>
          <a:ln w="0">
            <a:noFill/>
          </a:ln>
        </p:spPr>
      </p:pic>
      <p:sp>
        <p:nvSpPr>
          <p:cNvPr id="112" name="Multiply 6"/>
          <p:cNvSpPr/>
          <p:nvPr/>
        </p:nvSpPr>
        <p:spPr>
          <a:xfrm>
            <a:off x="990720" y="144792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43578" y="295654"/>
                </a:moveTo>
                <a:lnTo>
                  <a:pt x="295654" y="143578"/>
                </a:lnTo>
                <a:lnTo>
                  <a:pt x="457200" y="305125"/>
                </a:lnTo>
                <a:lnTo>
                  <a:pt x="618746" y="143578"/>
                </a:lnTo>
                <a:lnTo>
                  <a:pt x="770822" y="295654"/>
                </a:lnTo>
                <a:lnTo>
                  <a:pt x="609275" y="457200"/>
                </a:lnTo>
                <a:lnTo>
                  <a:pt x="770822" y="618746"/>
                </a:lnTo>
                <a:lnTo>
                  <a:pt x="618746" y="770822"/>
                </a:lnTo>
                <a:lnTo>
                  <a:pt x="457200" y="609275"/>
                </a:lnTo>
                <a:lnTo>
                  <a:pt x="295654" y="770822"/>
                </a:lnTo>
                <a:lnTo>
                  <a:pt x="143578" y="618746"/>
                </a:lnTo>
                <a:lnTo>
                  <a:pt x="305125" y="457200"/>
                </a:lnTo>
                <a:lnTo>
                  <a:pt x="143578" y="295654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7"/>
          <p:cNvSpPr/>
          <p:nvPr/>
        </p:nvSpPr>
        <p:spPr>
          <a:xfrm>
            <a:off x="5943600" y="5181480"/>
            <a:ext cx="205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count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Bevel 4"/>
          <p:cNvSpPr/>
          <p:nvPr/>
        </p:nvSpPr>
        <p:spPr>
          <a:xfrm rot="21059400">
            <a:off x="304920" y="5257440"/>
            <a:ext cx="2514600" cy="1143000"/>
          </a:xfrm>
          <a:prstGeom prst="bevel">
            <a:avLst>
              <a:gd name="adj" fmla="val 20468"/>
            </a:avLst>
          </a:prstGeom>
          <a:solidFill>
            <a:srgbClr val="ffff00">
              <a:alpha val="54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ur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30668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Suez Canal is linked together by what two bodies of wate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Mediterranean Sea &amp; Red Se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outline map Middle East"/>
          <p:cNvPicPr/>
          <p:nvPr/>
        </p:nvPicPr>
        <p:blipFill>
          <a:blip r:embed="rId1"/>
          <a:stretch/>
        </p:blipFill>
        <p:spPr>
          <a:xfrm>
            <a:off x="304920" y="304920"/>
            <a:ext cx="8737560" cy="6470640"/>
          </a:xfrm>
          <a:prstGeom prst="rect">
            <a:avLst/>
          </a:prstGeom>
          <a:ln w="0">
            <a:noFill/>
          </a:ln>
        </p:spPr>
      </p:pic>
      <p:sp>
        <p:nvSpPr>
          <p:cNvPr id="118" name="TextBox 4"/>
          <p:cNvSpPr/>
          <p:nvPr/>
        </p:nvSpPr>
        <p:spPr>
          <a:xfrm>
            <a:off x="6019920" y="4724280"/>
            <a:ext cx="2057400" cy="180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body of wa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Multiply 6"/>
          <p:cNvSpPr/>
          <p:nvPr/>
        </p:nvSpPr>
        <p:spPr>
          <a:xfrm>
            <a:off x="4952880" y="6019920"/>
            <a:ext cx="457200" cy="533160"/>
          </a:xfrm>
          <a:custGeom>
            <a:avLst/>
            <a:gdLst/>
            <a:ahLst/>
            <a:rect l="l" t="t" r="r" b="b"/>
            <a:pathLst>
              <a:path w="457200" h="533400">
                <a:moveTo>
                  <a:pt x="68985" y="163100"/>
                </a:moveTo>
                <a:lnTo>
                  <a:pt x="150631" y="93118"/>
                </a:lnTo>
                <a:lnTo>
                  <a:pt x="228600" y="184083"/>
                </a:lnTo>
                <a:lnTo>
                  <a:pt x="306569" y="93118"/>
                </a:lnTo>
                <a:lnTo>
                  <a:pt x="388215" y="163100"/>
                </a:lnTo>
                <a:lnTo>
                  <a:pt x="299415" y="266700"/>
                </a:lnTo>
                <a:lnTo>
                  <a:pt x="388215" y="370300"/>
                </a:lnTo>
                <a:lnTo>
                  <a:pt x="306569" y="440282"/>
                </a:lnTo>
                <a:lnTo>
                  <a:pt x="228600" y="349317"/>
                </a:lnTo>
                <a:lnTo>
                  <a:pt x="150631" y="440282"/>
                </a:lnTo>
                <a:lnTo>
                  <a:pt x="68985" y="370300"/>
                </a:lnTo>
                <a:lnTo>
                  <a:pt x="157785" y="266700"/>
                </a:lnTo>
                <a:lnTo>
                  <a:pt x="68985" y="1631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Bevel 5"/>
          <p:cNvSpPr/>
          <p:nvPr/>
        </p:nvSpPr>
        <p:spPr>
          <a:xfrm rot="21059400">
            <a:off x="836640" y="3619080"/>
            <a:ext cx="2514600" cy="1143000"/>
          </a:xfrm>
          <a:prstGeom prst="bevel">
            <a:avLst>
              <a:gd name="adj" fmla="val 20468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rabian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23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ny of the largest cities in Southwest Asia are located on or n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Riv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27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continents come together, or meet, in the Middle Ea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Asia, Africa, and Europ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31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ich body of water supplies Israel with most of its fresh wat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Jordan Riv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35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Dead Sea is on the border of which two na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Israel &amp; Jorda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Tigris and Euphrates Rivers run through which count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Iraq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39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the largest country on the Arabian Peninsul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Saudi Arab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58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5" descr="outline map Middle East"/>
          <p:cNvPicPr/>
          <p:nvPr/>
        </p:nvPicPr>
        <p:blipFill>
          <a:blip r:embed="rId1"/>
          <a:stretch/>
        </p:blipFill>
        <p:spPr>
          <a:xfrm>
            <a:off x="304920" y="304920"/>
            <a:ext cx="8737560" cy="6470640"/>
          </a:xfrm>
          <a:prstGeom prst="rect">
            <a:avLst/>
          </a:prstGeom>
          <a:ln w="0">
            <a:noFill/>
          </a:ln>
        </p:spPr>
      </p:pic>
      <p:sp>
        <p:nvSpPr>
          <p:cNvPr id="142" name="TextBox 4"/>
          <p:cNvSpPr/>
          <p:nvPr/>
        </p:nvSpPr>
        <p:spPr>
          <a:xfrm>
            <a:off x="6019920" y="4724280"/>
            <a:ext cx="2057400" cy="180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body of wa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Multiply 6"/>
          <p:cNvSpPr/>
          <p:nvPr/>
        </p:nvSpPr>
        <p:spPr>
          <a:xfrm>
            <a:off x="762120" y="2590920"/>
            <a:ext cx="457200" cy="533160"/>
          </a:xfrm>
          <a:custGeom>
            <a:avLst/>
            <a:gdLst/>
            <a:ahLst/>
            <a:rect l="l" t="t" r="r" b="b"/>
            <a:pathLst>
              <a:path w="457200" h="533400">
                <a:moveTo>
                  <a:pt x="68985" y="163100"/>
                </a:moveTo>
                <a:lnTo>
                  <a:pt x="150631" y="93118"/>
                </a:lnTo>
                <a:lnTo>
                  <a:pt x="228600" y="184083"/>
                </a:lnTo>
                <a:lnTo>
                  <a:pt x="306569" y="93118"/>
                </a:lnTo>
                <a:lnTo>
                  <a:pt x="388215" y="163100"/>
                </a:lnTo>
                <a:lnTo>
                  <a:pt x="299415" y="266700"/>
                </a:lnTo>
                <a:lnTo>
                  <a:pt x="388215" y="370300"/>
                </a:lnTo>
                <a:lnTo>
                  <a:pt x="306569" y="440282"/>
                </a:lnTo>
                <a:lnTo>
                  <a:pt x="228600" y="349317"/>
                </a:lnTo>
                <a:lnTo>
                  <a:pt x="150631" y="440282"/>
                </a:lnTo>
                <a:lnTo>
                  <a:pt x="68985" y="370300"/>
                </a:lnTo>
                <a:lnTo>
                  <a:pt x="157785" y="266700"/>
                </a:lnTo>
                <a:lnTo>
                  <a:pt x="68985" y="1631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Bevel 5"/>
          <p:cNvSpPr/>
          <p:nvPr/>
        </p:nvSpPr>
        <p:spPr>
          <a:xfrm rot="314400">
            <a:off x="1584000" y="1060200"/>
            <a:ext cx="3243240" cy="1460520"/>
          </a:xfrm>
          <a:prstGeom prst="bevel">
            <a:avLst>
              <a:gd name="adj" fmla="val 20468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editerranean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47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ople living in the deserts of the Middle East have usually made their living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Trading and Herding anima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1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4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51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 is the climate of most of the Middle Ea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Ari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55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Because mountains block winds coming from the oceans, much of the interior of Southwest Asia is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Deser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59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increasing population growth in Southwest Asia has increased the pollution of the water supply. Which industry has been directly affected by this pollu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Agriculture (Farming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63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es oil production affect the standard of living in Southwest As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higher the oil production, the higher the standard of liv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http://www.geointeractive.co.uk/outline%20maps/middleeastmap.gif"/>
          <p:cNvPicPr/>
          <p:nvPr/>
        </p:nvPicPr>
        <p:blipFill>
          <a:blip r:embed="rId1"/>
          <a:stretch/>
        </p:blipFill>
        <p:spPr>
          <a:xfrm>
            <a:off x="457200" y="476280"/>
            <a:ext cx="8247240" cy="5924520"/>
          </a:xfrm>
          <a:prstGeom prst="rect">
            <a:avLst/>
          </a:prstGeom>
          <a:ln w="0">
            <a:noFill/>
          </a:ln>
        </p:spPr>
      </p:pic>
      <p:sp>
        <p:nvSpPr>
          <p:cNvPr id="166" name="Multiply 6"/>
          <p:cNvSpPr/>
          <p:nvPr/>
        </p:nvSpPr>
        <p:spPr>
          <a:xfrm>
            <a:off x="4038480" y="25146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43578" y="295654"/>
                </a:moveTo>
                <a:lnTo>
                  <a:pt x="295654" y="143578"/>
                </a:lnTo>
                <a:lnTo>
                  <a:pt x="457200" y="305125"/>
                </a:lnTo>
                <a:lnTo>
                  <a:pt x="618746" y="143578"/>
                </a:lnTo>
                <a:lnTo>
                  <a:pt x="770822" y="295654"/>
                </a:lnTo>
                <a:lnTo>
                  <a:pt x="609275" y="457200"/>
                </a:lnTo>
                <a:lnTo>
                  <a:pt x="770822" y="618746"/>
                </a:lnTo>
                <a:lnTo>
                  <a:pt x="618746" y="770822"/>
                </a:lnTo>
                <a:lnTo>
                  <a:pt x="457200" y="609275"/>
                </a:lnTo>
                <a:lnTo>
                  <a:pt x="295654" y="770822"/>
                </a:lnTo>
                <a:lnTo>
                  <a:pt x="143578" y="618746"/>
                </a:lnTo>
                <a:lnTo>
                  <a:pt x="305125" y="457200"/>
                </a:lnTo>
                <a:lnTo>
                  <a:pt x="143578" y="295654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7"/>
          <p:cNvSpPr/>
          <p:nvPr/>
        </p:nvSpPr>
        <p:spPr>
          <a:xfrm>
            <a:off x="5943600" y="5181480"/>
            <a:ext cx="205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count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Bevel 5"/>
          <p:cNvSpPr/>
          <p:nvPr/>
        </p:nvSpPr>
        <p:spPr>
          <a:xfrm rot="314400">
            <a:off x="961920" y="4303800"/>
            <a:ext cx="2514600" cy="1143000"/>
          </a:xfrm>
          <a:prstGeom prst="bevel">
            <a:avLst>
              <a:gd name="adj" fmla="val 20468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r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71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iven a choice, where do people in Southwest Asia sett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River Valley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3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http://www.geointeractive.co.uk/outline%20maps/middleeastmap.gif"/>
          <p:cNvPicPr/>
          <p:nvPr/>
        </p:nvPicPr>
        <p:blipFill>
          <a:blip r:embed="rId1"/>
          <a:stretch/>
        </p:blipFill>
        <p:spPr>
          <a:xfrm>
            <a:off x="457200" y="476280"/>
            <a:ext cx="8247240" cy="5924520"/>
          </a:xfrm>
          <a:prstGeom prst="rect">
            <a:avLst/>
          </a:prstGeom>
          <a:ln w="0">
            <a:noFill/>
          </a:ln>
        </p:spPr>
      </p:pic>
      <p:sp>
        <p:nvSpPr>
          <p:cNvPr id="174" name="Multiply 6"/>
          <p:cNvSpPr/>
          <p:nvPr/>
        </p:nvSpPr>
        <p:spPr>
          <a:xfrm>
            <a:off x="4038480" y="25146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43578" y="295654"/>
                </a:moveTo>
                <a:lnTo>
                  <a:pt x="295654" y="143578"/>
                </a:lnTo>
                <a:lnTo>
                  <a:pt x="457200" y="305125"/>
                </a:lnTo>
                <a:lnTo>
                  <a:pt x="618746" y="143578"/>
                </a:lnTo>
                <a:lnTo>
                  <a:pt x="770822" y="295654"/>
                </a:lnTo>
                <a:lnTo>
                  <a:pt x="609275" y="457200"/>
                </a:lnTo>
                <a:lnTo>
                  <a:pt x="770822" y="618746"/>
                </a:lnTo>
                <a:lnTo>
                  <a:pt x="618746" y="770822"/>
                </a:lnTo>
                <a:lnTo>
                  <a:pt x="457200" y="609275"/>
                </a:lnTo>
                <a:lnTo>
                  <a:pt x="295654" y="770822"/>
                </a:lnTo>
                <a:lnTo>
                  <a:pt x="143578" y="618746"/>
                </a:lnTo>
                <a:lnTo>
                  <a:pt x="305125" y="457200"/>
                </a:lnTo>
                <a:lnTo>
                  <a:pt x="143578" y="295654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7"/>
          <p:cNvSpPr/>
          <p:nvPr/>
        </p:nvSpPr>
        <p:spPr>
          <a:xfrm>
            <a:off x="5943600" y="5181480"/>
            <a:ext cx="205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count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Bevel 5"/>
          <p:cNvSpPr/>
          <p:nvPr/>
        </p:nvSpPr>
        <p:spPr>
          <a:xfrm rot="314400">
            <a:off x="961920" y="4303800"/>
            <a:ext cx="2514600" cy="1143000"/>
          </a:xfrm>
          <a:prstGeom prst="bevel">
            <a:avLst>
              <a:gd name="adj" fmla="val 20468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r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6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outline map Middle East"/>
          <p:cNvPicPr/>
          <p:nvPr/>
        </p:nvPicPr>
        <p:blipFill>
          <a:blip r:embed="rId1"/>
          <a:stretch/>
        </p:blipFill>
        <p:spPr>
          <a:xfrm>
            <a:off x="304920" y="304920"/>
            <a:ext cx="8737560" cy="6470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019920" y="4724280"/>
            <a:ext cx="2057400" cy="180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body of wa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Multiply 6"/>
          <p:cNvSpPr/>
          <p:nvPr/>
        </p:nvSpPr>
        <p:spPr>
          <a:xfrm>
            <a:off x="1219320" y="685800"/>
            <a:ext cx="457200" cy="533520"/>
          </a:xfrm>
          <a:custGeom>
            <a:avLst/>
            <a:gdLst/>
            <a:ahLst/>
            <a:rect l="l" t="t" r="r" b="b"/>
            <a:pathLst>
              <a:path w="457200" h="533400">
                <a:moveTo>
                  <a:pt x="68985" y="163100"/>
                </a:moveTo>
                <a:lnTo>
                  <a:pt x="150631" y="93118"/>
                </a:lnTo>
                <a:lnTo>
                  <a:pt x="228600" y="184083"/>
                </a:lnTo>
                <a:lnTo>
                  <a:pt x="306569" y="93118"/>
                </a:lnTo>
                <a:lnTo>
                  <a:pt x="388215" y="163100"/>
                </a:lnTo>
                <a:lnTo>
                  <a:pt x="299415" y="266700"/>
                </a:lnTo>
                <a:lnTo>
                  <a:pt x="388215" y="370300"/>
                </a:lnTo>
                <a:lnTo>
                  <a:pt x="306569" y="440282"/>
                </a:lnTo>
                <a:lnTo>
                  <a:pt x="228600" y="349317"/>
                </a:lnTo>
                <a:lnTo>
                  <a:pt x="150631" y="440282"/>
                </a:lnTo>
                <a:lnTo>
                  <a:pt x="68985" y="370300"/>
                </a:lnTo>
                <a:lnTo>
                  <a:pt x="157785" y="266700"/>
                </a:lnTo>
                <a:lnTo>
                  <a:pt x="68985" y="1631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Bevel 5"/>
          <p:cNvSpPr/>
          <p:nvPr/>
        </p:nvSpPr>
        <p:spPr>
          <a:xfrm rot="20937000">
            <a:off x="1872720" y="1631520"/>
            <a:ext cx="2395800" cy="1079640"/>
          </a:xfrm>
          <a:prstGeom prst="bevel">
            <a:avLst>
              <a:gd name="adj" fmla="val 20468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lack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79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Jordan River empties into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Dead Se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5" descr="outline map Middle East"/>
          <p:cNvPicPr/>
          <p:nvPr/>
        </p:nvPicPr>
        <p:blipFill>
          <a:blip r:embed="rId1"/>
          <a:stretch/>
        </p:blipFill>
        <p:spPr>
          <a:xfrm>
            <a:off x="304920" y="304920"/>
            <a:ext cx="8737560" cy="6470640"/>
          </a:xfrm>
          <a:prstGeom prst="rect">
            <a:avLst/>
          </a:prstGeom>
          <a:ln w="0">
            <a:noFill/>
          </a:ln>
        </p:spPr>
      </p:pic>
      <p:sp>
        <p:nvSpPr>
          <p:cNvPr id="182" name="TextBox 4"/>
          <p:cNvSpPr/>
          <p:nvPr/>
        </p:nvSpPr>
        <p:spPr>
          <a:xfrm>
            <a:off x="6019920" y="4724280"/>
            <a:ext cx="2057400" cy="180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body of wa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ight Arrow 5"/>
          <p:cNvSpPr/>
          <p:nvPr/>
        </p:nvSpPr>
        <p:spPr>
          <a:xfrm rot="8326200">
            <a:off x="5238360" y="3803400"/>
            <a:ext cx="762120" cy="22860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Bevel 6"/>
          <p:cNvSpPr/>
          <p:nvPr/>
        </p:nvSpPr>
        <p:spPr>
          <a:xfrm rot="314400">
            <a:off x="961920" y="4303800"/>
            <a:ext cx="2514600" cy="1143000"/>
          </a:xfrm>
          <a:prstGeom prst="bevel">
            <a:avLst>
              <a:gd name="adj" fmla="val 4653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trait of Hormu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87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ich country in the Middle East is landloc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Afghanista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8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5" descr="outline map Middle East"/>
          <p:cNvPicPr/>
          <p:nvPr/>
        </p:nvPicPr>
        <p:blipFill>
          <a:blip r:embed="rId1"/>
          <a:stretch/>
        </p:blipFill>
        <p:spPr>
          <a:xfrm>
            <a:off x="304920" y="304920"/>
            <a:ext cx="8737560" cy="6470640"/>
          </a:xfrm>
          <a:prstGeom prst="rect">
            <a:avLst/>
          </a:prstGeom>
          <a:ln w="0">
            <a:noFill/>
          </a:ln>
        </p:spPr>
      </p:pic>
      <p:sp>
        <p:nvSpPr>
          <p:cNvPr id="190" name="TextBox 4"/>
          <p:cNvSpPr/>
          <p:nvPr/>
        </p:nvSpPr>
        <p:spPr>
          <a:xfrm>
            <a:off x="6019920" y="4724280"/>
            <a:ext cx="2057400" cy="180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body of wa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Multiply 6"/>
          <p:cNvSpPr/>
          <p:nvPr/>
        </p:nvSpPr>
        <p:spPr>
          <a:xfrm>
            <a:off x="1219320" y="685800"/>
            <a:ext cx="457200" cy="533520"/>
          </a:xfrm>
          <a:custGeom>
            <a:avLst/>
            <a:gdLst/>
            <a:ahLst/>
            <a:rect l="l" t="t" r="r" b="b"/>
            <a:pathLst>
              <a:path w="457200" h="533400">
                <a:moveTo>
                  <a:pt x="68985" y="163100"/>
                </a:moveTo>
                <a:lnTo>
                  <a:pt x="150631" y="93118"/>
                </a:lnTo>
                <a:lnTo>
                  <a:pt x="228600" y="184083"/>
                </a:lnTo>
                <a:lnTo>
                  <a:pt x="306569" y="93118"/>
                </a:lnTo>
                <a:lnTo>
                  <a:pt x="388215" y="163100"/>
                </a:lnTo>
                <a:lnTo>
                  <a:pt x="299415" y="266700"/>
                </a:lnTo>
                <a:lnTo>
                  <a:pt x="388215" y="370300"/>
                </a:lnTo>
                <a:lnTo>
                  <a:pt x="306569" y="440282"/>
                </a:lnTo>
                <a:lnTo>
                  <a:pt x="228600" y="349317"/>
                </a:lnTo>
                <a:lnTo>
                  <a:pt x="150631" y="440282"/>
                </a:lnTo>
                <a:lnTo>
                  <a:pt x="68985" y="370300"/>
                </a:lnTo>
                <a:lnTo>
                  <a:pt x="157785" y="266700"/>
                </a:lnTo>
                <a:lnTo>
                  <a:pt x="68985" y="1631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Bevel 5"/>
          <p:cNvSpPr/>
          <p:nvPr/>
        </p:nvSpPr>
        <p:spPr>
          <a:xfrm rot="20937000">
            <a:off x="1872720" y="1631520"/>
            <a:ext cx="2395800" cy="1079640"/>
          </a:xfrm>
          <a:prstGeom prst="bevel">
            <a:avLst>
              <a:gd name="adj" fmla="val 20468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lack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95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have the major rivers of Southwest Asia become a part of political confli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Building Dam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http://www.geointeractive.co.uk/outline%20maps/middleeastmap.gif"/>
          <p:cNvPicPr/>
          <p:nvPr/>
        </p:nvPicPr>
        <p:blipFill>
          <a:blip r:embed="rId1"/>
          <a:stretch/>
        </p:blipFill>
        <p:spPr>
          <a:xfrm>
            <a:off x="457200" y="476280"/>
            <a:ext cx="8247240" cy="5924520"/>
          </a:xfrm>
          <a:prstGeom prst="rect">
            <a:avLst/>
          </a:prstGeom>
          <a:ln w="0">
            <a:noFill/>
          </a:ln>
        </p:spPr>
      </p:pic>
      <p:sp>
        <p:nvSpPr>
          <p:cNvPr id="198" name="TextBox 7"/>
          <p:cNvSpPr/>
          <p:nvPr/>
        </p:nvSpPr>
        <p:spPr>
          <a:xfrm>
            <a:off x="5943600" y="5181480"/>
            <a:ext cx="205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deser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3"/>
          <p:cNvSpPr/>
          <p:nvPr/>
        </p:nvSpPr>
        <p:spPr>
          <a:xfrm>
            <a:off x="2514600" y="4267080"/>
            <a:ext cx="2362320" cy="1219320"/>
          </a:xfrm>
          <a:prstGeom prst="ellipse">
            <a:avLst/>
          </a:prstGeom>
          <a:solidFill>
            <a:srgbClr val="ffcc66">
              <a:alpha val="56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Bevel 4"/>
          <p:cNvSpPr/>
          <p:nvPr/>
        </p:nvSpPr>
        <p:spPr>
          <a:xfrm rot="314400">
            <a:off x="2484360" y="2271240"/>
            <a:ext cx="3089520" cy="1781280"/>
          </a:xfrm>
          <a:prstGeom prst="bevel">
            <a:avLst>
              <a:gd name="adj" fmla="val 20468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ub al Khali Des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03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country shares a border with both the Mediterranean and the Black Se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Turke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5" descr="outline map Middle East"/>
          <p:cNvPicPr/>
          <p:nvPr/>
        </p:nvPicPr>
        <p:blipFill>
          <a:blip r:embed="rId1"/>
          <a:stretch/>
        </p:blipFill>
        <p:spPr>
          <a:xfrm>
            <a:off x="304920" y="304920"/>
            <a:ext cx="8737560" cy="6470640"/>
          </a:xfrm>
          <a:prstGeom prst="rect">
            <a:avLst/>
          </a:prstGeom>
          <a:ln w="0">
            <a:noFill/>
          </a:ln>
        </p:spPr>
      </p:pic>
      <p:sp>
        <p:nvSpPr>
          <p:cNvPr id="206" name="TextBox 4"/>
          <p:cNvSpPr/>
          <p:nvPr/>
        </p:nvSpPr>
        <p:spPr>
          <a:xfrm>
            <a:off x="6019920" y="4724280"/>
            <a:ext cx="2057400" cy="180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body of wa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Multiply 6"/>
          <p:cNvSpPr/>
          <p:nvPr/>
        </p:nvSpPr>
        <p:spPr>
          <a:xfrm>
            <a:off x="1219320" y="685800"/>
            <a:ext cx="457200" cy="533520"/>
          </a:xfrm>
          <a:custGeom>
            <a:avLst/>
            <a:gdLst/>
            <a:ahLst/>
            <a:rect l="l" t="t" r="r" b="b"/>
            <a:pathLst>
              <a:path w="457200" h="533400">
                <a:moveTo>
                  <a:pt x="68985" y="163100"/>
                </a:moveTo>
                <a:lnTo>
                  <a:pt x="150631" y="93118"/>
                </a:lnTo>
                <a:lnTo>
                  <a:pt x="228600" y="184083"/>
                </a:lnTo>
                <a:lnTo>
                  <a:pt x="306569" y="93118"/>
                </a:lnTo>
                <a:lnTo>
                  <a:pt x="388215" y="163100"/>
                </a:lnTo>
                <a:lnTo>
                  <a:pt x="299415" y="266700"/>
                </a:lnTo>
                <a:lnTo>
                  <a:pt x="388215" y="370300"/>
                </a:lnTo>
                <a:lnTo>
                  <a:pt x="306569" y="440282"/>
                </a:lnTo>
                <a:lnTo>
                  <a:pt x="228600" y="349317"/>
                </a:lnTo>
                <a:lnTo>
                  <a:pt x="150631" y="440282"/>
                </a:lnTo>
                <a:lnTo>
                  <a:pt x="68985" y="370300"/>
                </a:lnTo>
                <a:lnTo>
                  <a:pt x="157785" y="266700"/>
                </a:lnTo>
                <a:lnTo>
                  <a:pt x="68985" y="1631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Bevel 5"/>
          <p:cNvSpPr/>
          <p:nvPr/>
        </p:nvSpPr>
        <p:spPr>
          <a:xfrm rot="20937000">
            <a:off x="1872720" y="1631520"/>
            <a:ext cx="2395800" cy="1079640"/>
          </a:xfrm>
          <a:prstGeom prst="bevel">
            <a:avLst>
              <a:gd name="adj" fmla="val 20468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lack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11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 country lies to the west of Ir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Iraq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60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http://www.geointeractive.co.uk/outline%20maps/middleeastmap.gif"/>
          <p:cNvPicPr/>
          <p:nvPr/>
        </p:nvPicPr>
        <p:blipFill>
          <a:blip r:embed="rId1"/>
          <a:stretch/>
        </p:blipFill>
        <p:spPr>
          <a:xfrm>
            <a:off x="457200" y="476280"/>
            <a:ext cx="8247240" cy="59245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14" name="TextBox 7"/>
          <p:cNvSpPr/>
          <p:nvPr/>
        </p:nvSpPr>
        <p:spPr>
          <a:xfrm>
            <a:off x="5943600" y="5181480"/>
            <a:ext cx="205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riv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6"/>
          <p:cNvSpPr/>
          <p:nvPr/>
        </p:nvSpPr>
        <p:spPr>
          <a:xfrm>
            <a:off x="2209680" y="1600200"/>
            <a:ext cx="1592280" cy="1871640"/>
          </a:xfrm>
          <a:custGeom>
            <a:avLst/>
            <a:gdLst/>
            <a:ahLst/>
            <a:rect l="l" t="t" r="r" b="b"/>
            <a:pathLst>
              <a:path w="1592688" h="1871730">
                <a:moveTo>
                  <a:pt x="266163" y="0"/>
                </a:moveTo>
                <a:cubicBezTo>
                  <a:pt x="206062" y="134155"/>
                  <a:pt x="145961" y="268310"/>
                  <a:pt x="124496" y="360608"/>
                </a:cubicBezTo>
                <a:cubicBezTo>
                  <a:pt x="103031" y="452906"/>
                  <a:pt x="156692" y="476518"/>
                  <a:pt x="137374" y="553791"/>
                </a:cubicBezTo>
                <a:cubicBezTo>
                  <a:pt x="118056" y="631064"/>
                  <a:pt x="0" y="731949"/>
                  <a:pt x="8586" y="824248"/>
                </a:cubicBezTo>
                <a:cubicBezTo>
                  <a:pt x="17172" y="916547"/>
                  <a:pt x="103031" y="1043189"/>
                  <a:pt x="188890" y="1107583"/>
                </a:cubicBezTo>
                <a:cubicBezTo>
                  <a:pt x="274749" y="1171977"/>
                  <a:pt x="429296" y="1176270"/>
                  <a:pt x="523741" y="1210614"/>
                </a:cubicBezTo>
                <a:cubicBezTo>
                  <a:pt x="618186" y="1244958"/>
                  <a:pt x="691166" y="1257837"/>
                  <a:pt x="755560" y="1313645"/>
                </a:cubicBezTo>
                <a:cubicBezTo>
                  <a:pt x="819954" y="1369454"/>
                  <a:pt x="871470" y="1491803"/>
                  <a:pt x="910107" y="1545465"/>
                </a:cubicBezTo>
                <a:cubicBezTo>
                  <a:pt x="948744" y="1599127"/>
                  <a:pt x="938011" y="1586248"/>
                  <a:pt x="987380" y="1635617"/>
                </a:cubicBezTo>
                <a:cubicBezTo>
                  <a:pt x="1036749" y="1684986"/>
                  <a:pt x="1114022" y="1811628"/>
                  <a:pt x="1206321" y="1841679"/>
                </a:cubicBezTo>
                <a:cubicBezTo>
                  <a:pt x="1298620" y="1871730"/>
                  <a:pt x="1489657" y="1822361"/>
                  <a:pt x="1541172" y="1815921"/>
                </a:cubicBezTo>
                <a:cubicBezTo>
                  <a:pt x="1592688" y="1809482"/>
                  <a:pt x="1554051" y="1806262"/>
                  <a:pt x="1515414" y="1803042"/>
                </a:cubicBezTo>
              </a:path>
            </a:pathLst>
          </a:custGeom>
          <a:noFill/>
          <a:ln w="349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8"/>
          <p:cNvSpPr/>
          <p:nvPr/>
        </p:nvSpPr>
        <p:spPr>
          <a:xfrm>
            <a:off x="2452680" y="1455840"/>
            <a:ext cx="1449360" cy="2047680"/>
          </a:xfrm>
          <a:custGeom>
            <a:avLst/>
            <a:gdLst/>
            <a:ahLst/>
            <a:rect l="l" t="t" r="r" b="b"/>
            <a:pathLst>
              <a:path w="1448873" h="2047741">
                <a:moveTo>
                  <a:pt x="444320" y="0"/>
                </a:moveTo>
                <a:cubicBezTo>
                  <a:pt x="406757" y="26831"/>
                  <a:pt x="369194" y="53662"/>
                  <a:pt x="328411" y="77273"/>
                </a:cubicBezTo>
                <a:cubicBezTo>
                  <a:pt x="287628" y="100884"/>
                  <a:pt x="253284" y="128788"/>
                  <a:pt x="199622" y="141667"/>
                </a:cubicBezTo>
                <a:cubicBezTo>
                  <a:pt x="145960" y="154546"/>
                  <a:pt x="0" y="135228"/>
                  <a:pt x="6439" y="154546"/>
                </a:cubicBezTo>
                <a:cubicBezTo>
                  <a:pt x="12878" y="173864"/>
                  <a:pt x="191037" y="223233"/>
                  <a:pt x="238259" y="257577"/>
                </a:cubicBezTo>
                <a:cubicBezTo>
                  <a:pt x="285482" y="291921"/>
                  <a:pt x="253284" y="326264"/>
                  <a:pt x="289774" y="360608"/>
                </a:cubicBezTo>
                <a:cubicBezTo>
                  <a:pt x="326264" y="394952"/>
                  <a:pt x="420709" y="399245"/>
                  <a:pt x="457199" y="463639"/>
                </a:cubicBezTo>
                <a:cubicBezTo>
                  <a:pt x="493689" y="528033"/>
                  <a:pt x="476518" y="678287"/>
                  <a:pt x="508715" y="746974"/>
                </a:cubicBezTo>
                <a:cubicBezTo>
                  <a:pt x="540912" y="815661"/>
                  <a:pt x="605306" y="817808"/>
                  <a:pt x="650382" y="875763"/>
                </a:cubicBezTo>
                <a:cubicBezTo>
                  <a:pt x="695458" y="933718"/>
                  <a:pt x="751267" y="1017431"/>
                  <a:pt x="779171" y="1094704"/>
                </a:cubicBezTo>
                <a:cubicBezTo>
                  <a:pt x="807075" y="1171977"/>
                  <a:pt x="804929" y="1279301"/>
                  <a:pt x="817808" y="1339402"/>
                </a:cubicBezTo>
                <a:cubicBezTo>
                  <a:pt x="830687" y="1399503"/>
                  <a:pt x="830686" y="1412382"/>
                  <a:pt x="856444" y="1455312"/>
                </a:cubicBezTo>
                <a:cubicBezTo>
                  <a:pt x="882202" y="1498242"/>
                  <a:pt x="938010" y="1558343"/>
                  <a:pt x="972354" y="1596980"/>
                </a:cubicBezTo>
                <a:cubicBezTo>
                  <a:pt x="1006698" y="1635617"/>
                  <a:pt x="1043188" y="1659228"/>
                  <a:pt x="1062506" y="1687132"/>
                </a:cubicBezTo>
                <a:cubicBezTo>
                  <a:pt x="1081824" y="1715036"/>
                  <a:pt x="1064653" y="1742940"/>
                  <a:pt x="1088264" y="1764405"/>
                </a:cubicBezTo>
                <a:cubicBezTo>
                  <a:pt x="1111875" y="1785870"/>
                  <a:pt x="1174123" y="1785870"/>
                  <a:pt x="1204174" y="1815921"/>
                </a:cubicBezTo>
                <a:cubicBezTo>
                  <a:pt x="1234225" y="1845972"/>
                  <a:pt x="1227785" y="1906073"/>
                  <a:pt x="1268568" y="1944710"/>
                </a:cubicBezTo>
                <a:cubicBezTo>
                  <a:pt x="1309351" y="1983347"/>
                  <a:pt x="1448873" y="2047741"/>
                  <a:pt x="1448873" y="2047741"/>
                </a:cubicBezTo>
                <a:lnTo>
                  <a:pt x="1448873" y="2047741"/>
                </a:lnTo>
              </a:path>
            </a:pathLst>
          </a:custGeom>
          <a:noFill/>
          <a:ln w="349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ight Arrow 9"/>
          <p:cNvSpPr/>
          <p:nvPr/>
        </p:nvSpPr>
        <p:spPr>
          <a:xfrm>
            <a:off x="2209680" y="2895480"/>
            <a:ext cx="762120" cy="22860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Bevel 10"/>
          <p:cNvSpPr/>
          <p:nvPr/>
        </p:nvSpPr>
        <p:spPr>
          <a:xfrm rot="21059400">
            <a:off x="836640" y="4228920"/>
            <a:ext cx="2514600" cy="1143000"/>
          </a:xfrm>
          <a:prstGeom prst="bevel">
            <a:avLst>
              <a:gd name="adj" fmla="val 9338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uphrates 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30668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Suez Canal is linked together by which two bodies of wate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Mediterranean Sea &amp; Red Se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21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 country is south of Lebanon, west of Jordan and east of Egyp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Isra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5" descr="outline map Middle East"/>
          <p:cNvPicPr/>
          <p:nvPr/>
        </p:nvPicPr>
        <p:blipFill>
          <a:blip r:embed="rId1"/>
          <a:stretch/>
        </p:blipFill>
        <p:spPr>
          <a:xfrm>
            <a:off x="304920" y="304920"/>
            <a:ext cx="8737560" cy="6470640"/>
          </a:xfrm>
          <a:prstGeom prst="rect">
            <a:avLst/>
          </a:prstGeom>
          <a:ln w="0">
            <a:noFill/>
          </a:ln>
        </p:spPr>
      </p:pic>
      <p:sp>
        <p:nvSpPr>
          <p:cNvPr id="224" name="TextBox 4"/>
          <p:cNvSpPr/>
          <p:nvPr/>
        </p:nvSpPr>
        <p:spPr>
          <a:xfrm>
            <a:off x="6019920" y="4724280"/>
            <a:ext cx="2057400" cy="180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body of wa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Multiply 6"/>
          <p:cNvSpPr/>
          <p:nvPr/>
        </p:nvSpPr>
        <p:spPr>
          <a:xfrm>
            <a:off x="4267080" y="3809880"/>
            <a:ext cx="457200" cy="533520"/>
          </a:xfrm>
          <a:custGeom>
            <a:avLst/>
            <a:gdLst/>
            <a:ahLst/>
            <a:rect l="l" t="t" r="r" b="b"/>
            <a:pathLst>
              <a:path w="457200" h="533400">
                <a:moveTo>
                  <a:pt x="68985" y="163100"/>
                </a:moveTo>
                <a:lnTo>
                  <a:pt x="150631" y="93118"/>
                </a:lnTo>
                <a:lnTo>
                  <a:pt x="228600" y="184083"/>
                </a:lnTo>
                <a:lnTo>
                  <a:pt x="306569" y="93118"/>
                </a:lnTo>
                <a:lnTo>
                  <a:pt x="388215" y="163100"/>
                </a:lnTo>
                <a:lnTo>
                  <a:pt x="299415" y="266700"/>
                </a:lnTo>
                <a:lnTo>
                  <a:pt x="388215" y="370300"/>
                </a:lnTo>
                <a:lnTo>
                  <a:pt x="306569" y="440282"/>
                </a:lnTo>
                <a:lnTo>
                  <a:pt x="228600" y="349317"/>
                </a:lnTo>
                <a:lnTo>
                  <a:pt x="150631" y="440282"/>
                </a:lnTo>
                <a:lnTo>
                  <a:pt x="68985" y="370300"/>
                </a:lnTo>
                <a:lnTo>
                  <a:pt x="157785" y="266700"/>
                </a:lnTo>
                <a:lnTo>
                  <a:pt x="68985" y="1631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Bevel 5"/>
          <p:cNvSpPr/>
          <p:nvPr/>
        </p:nvSpPr>
        <p:spPr>
          <a:xfrm rot="314400">
            <a:off x="961920" y="4303800"/>
            <a:ext cx="2514600" cy="1143000"/>
          </a:xfrm>
          <a:prstGeom prst="bevel">
            <a:avLst>
              <a:gd name="adj" fmla="val 20468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ersian Gu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29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 body of water is in-between Iran and Saudi Arab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Persian Gul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8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3" dur="1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http://www.geointeractive.co.uk/outline%20maps/middleeastmap.gif"/>
          <p:cNvPicPr/>
          <p:nvPr/>
        </p:nvPicPr>
        <p:blipFill>
          <a:blip r:embed="rId1"/>
          <a:stretch/>
        </p:blipFill>
        <p:spPr>
          <a:xfrm>
            <a:off x="457200" y="476280"/>
            <a:ext cx="8247240" cy="59245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32" name="TextBox 7"/>
          <p:cNvSpPr/>
          <p:nvPr/>
        </p:nvSpPr>
        <p:spPr>
          <a:xfrm>
            <a:off x="5943600" y="5181480"/>
            <a:ext cx="205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riv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6"/>
          <p:cNvSpPr/>
          <p:nvPr/>
        </p:nvSpPr>
        <p:spPr>
          <a:xfrm>
            <a:off x="2209680" y="1600200"/>
            <a:ext cx="1592280" cy="1871640"/>
          </a:xfrm>
          <a:custGeom>
            <a:avLst/>
            <a:gdLst/>
            <a:ahLst/>
            <a:rect l="l" t="t" r="r" b="b"/>
            <a:pathLst>
              <a:path w="1592688" h="1871730">
                <a:moveTo>
                  <a:pt x="266163" y="0"/>
                </a:moveTo>
                <a:cubicBezTo>
                  <a:pt x="206062" y="134155"/>
                  <a:pt x="145961" y="268310"/>
                  <a:pt x="124496" y="360608"/>
                </a:cubicBezTo>
                <a:cubicBezTo>
                  <a:pt x="103031" y="452906"/>
                  <a:pt x="156692" y="476518"/>
                  <a:pt x="137374" y="553791"/>
                </a:cubicBezTo>
                <a:cubicBezTo>
                  <a:pt x="118056" y="631064"/>
                  <a:pt x="0" y="731949"/>
                  <a:pt x="8586" y="824248"/>
                </a:cubicBezTo>
                <a:cubicBezTo>
                  <a:pt x="17172" y="916547"/>
                  <a:pt x="103031" y="1043189"/>
                  <a:pt x="188890" y="1107583"/>
                </a:cubicBezTo>
                <a:cubicBezTo>
                  <a:pt x="274749" y="1171977"/>
                  <a:pt x="429296" y="1176270"/>
                  <a:pt x="523741" y="1210614"/>
                </a:cubicBezTo>
                <a:cubicBezTo>
                  <a:pt x="618186" y="1244958"/>
                  <a:pt x="691166" y="1257837"/>
                  <a:pt x="755560" y="1313645"/>
                </a:cubicBezTo>
                <a:cubicBezTo>
                  <a:pt x="819954" y="1369454"/>
                  <a:pt x="871470" y="1491803"/>
                  <a:pt x="910107" y="1545465"/>
                </a:cubicBezTo>
                <a:cubicBezTo>
                  <a:pt x="948744" y="1599127"/>
                  <a:pt x="938011" y="1586248"/>
                  <a:pt x="987380" y="1635617"/>
                </a:cubicBezTo>
                <a:cubicBezTo>
                  <a:pt x="1036749" y="1684986"/>
                  <a:pt x="1114022" y="1811628"/>
                  <a:pt x="1206321" y="1841679"/>
                </a:cubicBezTo>
                <a:cubicBezTo>
                  <a:pt x="1298620" y="1871730"/>
                  <a:pt x="1489657" y="1822361"/>
                  <a:pt x="1541172" y="1815921"/>
                </a:cubicBezTo>
                <a:cubicBezTo>
                  <a:pt x="1592688" y="1809482"/>
                  <a:pt x="1554051" y="1806262"/>
                  <a:pt x="1515414" y="1803042"/>
                </a:cubicBezTo>
              </a:path>
            </a:pathLst>
          </a:custGeom>
          <a:noFill/>
          <a:ln w="349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8"/>
          <p:cNvSpPr/>
          <p:nvPr/>
        </p:nvSpPr>
        <p:spPr>
          <a:xfrm>
            <a:off x="2452680" y="1455840"/>
            <a:ext cx="1449360" cy="2047680"/>
          </a:xfrm>
          <a:custGeom>
            <a:avLst/>
            <a:gdLst/>
            <a:ahLst/>
            <a:rect l="l" t="t" r="r" b="b"/>
            <a:pathLst>
              <a:path w="1448873" h="2047741">
                <a:moveTo>
                  <a:pt x="444320" y="0"/>
                </a:moveTo>
                <a:cubicBezTo>
                  <a:pt x="406757" y="26831"/>
                  <a:pt x="369194" y="53662"/>
                  <a:pt x="328411" y="77273"/>
                </a:cubicBezTo>
                <a:cubicBezTo>
                  <a:pt x="287628" y="100884"/>
                  <a:pt x="253284" y="128788"/>
                  <a:pt x="199622" y="141667"/>
                </a:cubicBezTo>
                <a:cubicBezTo>
                  <a:pt x="145960" y="154546"/>
                  <a:pt x="0" y="135228"/>
                  <a:pt x="6439" y="154546"/>
                </a:cubicBezTo>
                <a:cubicBezTo>
                  <a:pt x="12878" y="173864"/>
                  <a:pt x="191037" y="223233"/>
                  <a:pt x="238259" y="257577"/>
                </a:cubicBezTo>
                <a:cubicBezTo>
                  <a:pt x="285482" y="291921"/>
                  <a:pt x="253284" y="326264"/>
                  <a:pt x="289774" y="360608"/>
                </a:cubicBezTo>
                <a:cubicBezTo>
                  <a:pt x="326264" y="394952"/>
                  <a:pt x="420709" y="399245"/>
                  <a:pt x="457199" y="463639"/>
                </a:cubicBezTo>
                <a:cubicBezTo>
                  <a:pt x="493689" y="528033"/>
                  <a:pt x="476518" y="678287"/>
                  <a:pt x="508715" y="746974"/>
                </a:cubicBezTo>
                <a:cubicBezTo>
                  <a:pt x="540912" y="815661"/>
                  <a:pt x="605306" y="817808"/>
                  <a:pt x="650382" y="875763"/>
                </a:cubicBezTo>
                <a:cubicBezTo>
                  <a:pt x="695458" y="933718"/>
                  <a:pt x="751267" y="1017431"/>
                  <a:pt x="779171" y="1094704"/>
                </a:cubicBezTo>
                <a:cubicBezTo>
                  <a:pt x="807075" y="1171977"/>
                  <a:pt x="804929" y="1279301"/>
                  <a:pt x="817808" y="1339402"/>
                </a:cubicBezTo>
                <a:cubicBezTo>
                  <a:pt x="830687" y="1399503"/>
                  <a:pt x="830686" y="1412382"/>
                  <a:pt x="856444" y="1455312"/>
                </a:cubicBezTo>
                <a:cubicBezTo>
                  <a:pt x="882202" y="1498242"/>
                  <a:pt x="938010" y="1558343"/>
                  <a:pt x="972354" y="1596980"/>
                </a:cubicBezTo>
                <a:cubicBezTo>
                  <a:pt x="1006698" y="1635617"/>
                  <a:pt x="1043188" y="1659228"/>
                  <a:pt x="1062506" y="1687132"/>
                </a:cubicBezTo>
                <a:cubicBezTo>
                  <a:pt x="1081824" y="1715036"/>
                  <a:pt x="1064653" y="1742940"/>
                  <a:pt x="1088264" y="1764405"/>
                </a:cubicBezTo>
                <a:cubicBezTo>
                  <a:pt x="1111875" y="1785870"/>
                  <a:pt x="1174123" y="1785870"/>
                  <a:pt x="1204174" y="1815921"/>
                </a:cubicBezTo>
                <a:cubicBezTo>
                  <a:pt x="1234225" y="1845972"/>
                  <a:pt x="1227785" y="1906073"/>
                  <a:pt x="1268568" y="1944710"/>
                </a:cubicBezTo>
                <a:cubicBezTo>
                  <a:pt x="1309351" y="1983347"/>
                  <a:pt x="1448873" y="2047741"/>
                  <a:pt x="1448873" y="2047741"/>
                </a:cubicBezTo>
                <a:lnTo>
                  <a:pt x="1448873" y="2047741"/>
                </a:lnTo>
              </a:path>
            </a:pathLst>
          </a:custGeom>
          <a:noFill/>
          <a:ln w="349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ight Arrow 9"/>
          <p:cNvSpPr/>
          <p:nvPr/>
        </p:nvSpPr>
        <p:spPr>
          <a:xfrm rot="8326200">
            <a:off x="3180960" y="2203200"/>
            <a:ext cx="762120" cy="22860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Bevel 10"/>
          <p:cNvSpPr/>
          <p:nvPr/>
        </p:nvSpPr>
        <p:spPr>
          <a:xfrm rot="314400">
            <a:off x="961920" y="4303800"/>
            <a:ext cx="2514600" cy="1143000"/>
          </a:xfrm>
          <a:prstGeom prst="bevel">
            <a:avLst>
              <a:gd name="adj" fmla="val 20468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igris River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39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 physical feature could Iran block half the world’s petroleum from getting out of the Middle Ea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Strait of Hormuz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5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5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5" descr="outline map Middle East"/>
          <p:cNvPicPr/>
          <p:nvPr/>
        </p:nvPicPr>
        <p:blipFill>
          <a:blip r:embed="rId1"/>
          <a:stretch/>
        </p:blipFill>
        <p:spPr>
          <a:xfrm>
            <a:off x="0" y="387360"/>
            <a:ext cx="8737560" cy="64706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5"/>
          <p:cNvSpPr/>
          <p:nvPr/>
        </p:nvSpPr>
        <p:spPr>
          <a:xfrm>
            <a:off x="5943600" y="5181480"/>
            <a:ext cx="2057400" cy="13737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landfor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7"/>
          <p:cNvSpPr/>
          <p:nvPr/>
        </p:nvSpPr>
        <p:spPr>
          <a:xfrm rot="3151200">
            <a:off x="973800" y="3396240"/>
            <a:ext cx="914400" cy="465120"/>
          </a:xfrm>
          <a:prstGeom prst="ellipse">
            <a:avLst/>
          </a:prstGeom>
          <a:solidFill>
            <a:srgbClr val="ffcc66">
              <a:alpha val="21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Bevel 4"/>
          <p:cNvSpPr/>
          <p:nvPr/>
        </p:nvSpPr>
        <p:spPr>
          <a:xfrm rot="21186000">
            <a:off x="2513160" y="2857320"/>
            <a:ext cx="2514600" cy="1143000"/>
          </a:xfrm>
          <a:prstGeom prst="bevel">
            <a:avLst>
              <a:gd name="adj" fmla="val 8162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nai Penins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47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what country is the source of the Tigris and Euphrates Riv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Turke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5" descr="outline map Middle East"/>
          <p:cNvPicPr/>
          <p:nvPr/>
        </p:nvPicPr>
        <p:blipFill>
          <a:blip r:embed="rId1"/>
          <a:stretch/>
        </p:blipFill>
        <p:spPr>
          <a:xfrm>
            <a:off x="304920" y="304920"/>
            <a:ext cx="8737560" cy="6470640"/>
          </a:xfrm>
          <a:prstGeom prst="rect">
            <a:avLst/>
          </a:prstGeom>
          <a:ln w="0">
            <a:noFill/>
          </a:ln>
        </p:spPr>
      </p:pic>
      <p:sp>
        <p:nvSpPr>
          <p:cNvPr id="250" name="TextBox 4"/>
          <p:cNvSpPr/>
          <p:nvPr/>
        </p:nvSpPr>
        <p:spPr>
          <a:xfrm>
            <a:off x="6019920" y="4724280"/>
            <a:ext cx="2057400" cy="180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body of wa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Multiply 6"/>
          <p:cNvSpPr/>
          <p:nvPr/>
        </p:nvSpPr>
        <p:spPr>
          <a:xfrm>
            <a:off x="4952880" y="6019920"/>
            <a:ext cx="457200" cy="533160"/>
          </a:xfrm>
          <a:custGeom>
            <a:avLst/>
            <a:gdLst/>
            <a:ahLst/>
            <a:rect l="l" t="t" r="r" b="b"/>
            <a:pathLst>
              <a:path w="457200" h="533400">
                <a:moveTo>
                  <a:pt x="68985" y="163100"/>
                </a:moveTo>
                <a:lnTo>
                  <a:pt x="150631" y="93118"/>
                </a:lnTo>
                <a:lnTo>
                  <a:pt x="228600" y="184083"/>
                </a:lnTo>
                <a:lnTo>
                  <a:pt x="306569" y="93118"/>
                </a:lnTo>
                <a:lnTo>
                  <a:pt x="388215" y="163100"/>
                </a:lnTo>
                <a:lnTo>
                  <a:pt x="299415" y="266700"/>
                </a:lnTo>
                <a:lnTo>
                  <a:pt x="388215" y="370300"/>
                </a:lnTo>
                <a:lnTo>
                  <a:pt x="306569" y="440282"/>
                </a:lnTo>
                <a:lnTo>
                  <a:pt x="228600" y="349317"/>
                </a:lnTo>
                <a:lnTo>
                  <a:pt x="150631" y="440282"/>
                </a:lnTo>
                <a:lnTo>
                  <a:pt x="68985" y="370300"/>
                </a:lnTo>
                <a:lnTo>
                  <a:pt x="157785" y="266700"/>
                </a:lnTo>
                <a:lnTo>
                  <a:pt x="68985" y="1631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Bevel 5"/>
          <p:cNvSpPr/>
          <p:nvPr/>
        </p:nvSpPr>
        <p:spPr>
          <a:xfrm rot="21059400">
            <a:off x="836640" y="3619080"/>
            <a:ext cx="2514600" cy="1143000"/>
          </a:xfrm>
          <a:prstGeom prst="bevel">
            <a:avLst>
              <a:gd name="adj" fmla="val 20468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rabian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55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 country in the Middle East is to the south of the Caspian Se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Ira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http://www.geointeractive.co.uk/outline%20maps/middleeastmap.gif"/>
          <p:cNvPicPr/>
          <p:nvPr/>
        </p:nvPicPr>
        <p:blipFill>
          <a:blip r:embed="rId1"/>
          <a:stretch/>
        </p:blipFill>
        <p:spPr>
          <a:xfrm>
            <a:off x="457200" y="476280"/>
            <a:ext cx="8247240" cy="5924520"/>
          </a:xfrm>
          <a:prstGeom prst="rect">
            <a:avLst/>
          </a:prstGeom>
          <a:ln w="0">
            <a:noFill/>
          </a:ln>
        </p:spPr>
      </p:pic>
      <p:sp>
        <p:nvSpPr>
          <p:cNvPr id="258" name="Multiply 6"/>
          <p:cNvSpPr/>
          <p:nvPr/>
        </p:nvSpPr>
        <p:spPr>
          <a:xfrm>
            <a:off x="990720" y="144792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43578" y="295654"/>
                </a:moveTo>
                <a:lnTo>
                  <a:pt x="295654" y="143578"/>
                </a:lnTo>
                <a:lnTo>
                  <a:pt x="457200" y="305125"/>
                </a:lnTo>
                <a:lnTo>
                  <a:pt x="618746" y="143578"/>
                </a:lnTo>
                <a:lnTo>
                  <a:pt x="770822" y="295654"/>
                </a:lnTo>
                <a:lnTo>
                  <a:pt x="609275" y="457200"/>
                </a:lnTo>
                <a:lnTo>
                  <a:pt x="770822" y="618746"/>
                </a:lnTo>
                <a:lnTo>
                  <a:pt x="618746" y="770822"/>
                </a:lnTo>
                <a:lnTo>
                  <a:pt x="457200" y="609275"/>
                </a:lnTo>
                <a:lnTo>
                  <a:pt x="295654" y="770822"/>
                </a:lnTo>
                <a:lnTo>
                  <a:pt x="143578" y="618746"/>
                </a:lnTo>
                <a:lnTo>
                  <a:pt x="305125" y="457200"/>
                </a:lnTo>
                <a:lnTo>
                  <a:pt x="143578" y="295654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7"/>
          <p:cNvSpPr/>
          <p:nvPr/>
        </p:nvSpPr>
        <p:spPr>
          <a:xfrm>
            <a:off x="5943600" y="5181480"/>
            <a:ext cx="205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count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Bevel 4"/>
          <p:cNvSpPr/>
          <p:nvPr/>
        </p:nvSpPr>
        <p:spPr>
          <a:xfrm rot="21059400">
            <a:off x="304920" y="5257440"/>
            <a:ext cx="2514600" cy="1143000"/>
          </a:xfrm>
          <a:prstGeom prst="bevel">
            <a:avLst>
              <a:gd name="adj" fmla="val 20468"/>
            </a:avLst>
          </a:prstGeom>
          <a:solidFill>
            <a:srgbClr val="ffff00">
              <a:alpha val="54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ur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www.geointeractive.co.uk/outline%20maps/middleeastmap.gif"/>
          <p:cNvPicPr/>
          <p:nvPr/>
        </p:nvPicPr>
        <p:blipFill>
          <a:blip r:embed="rId1"/>
          <a:stretch/>
        </p:blipFill>
        <p:spPr>
          <a:xfrm>
            <a:off x="457200" y="476280"/>
            <a:ext cx="8247240" cy="59245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6" name="TextBox 7"/>
          <p:cNvSpPr/>
          <p:nvPr/>
        </p:nvSpPr>
        <p:spPr>
          <a:xfrm>
            <a:off x="5943600" y="5181480"/>
            <a:ext cx="205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riv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6"/>
          <p:cNvSpPr/>
          <p:nvPr/>
        </p:nvSpPr>
        <p:spPr>
          <a:xfrm>
            <a:off x="2209680" y="1600200"/>
            <a:ext cx="1592280" cy="1871640"/>
          </a:xfrm>
          <a:custGeom>
            <a:avLst/>
            <a:gdLst/>
            <a:ahLst/>
            <a:rect l="l" t="t" r="r" b="b"/>
            <a:pathLst>
              <a:path w="1592688" h="1871730">
                <a:moveTo>
                  <a:pt x="266163" y="0"/>
                </a:moveTo>
                <a:cubicBezTo>
                  <a:pt x="206062" y="134155"/>
                  <a:pt x="145961" y="268310"/>
                  <a:pt x="124496" y="360608"/>
                </a:cubicBezTo>
                <a:cubicBezTo>
                  <a:pt x="103031" y="452906"/>
                  <a:pt x="156692" y="476518"/>
                  <a:pt x="137374" y="553791"/>
                </a:cubicBezTo>
                <a:cubicBezTo>
                  <a:pt x="118056" y="631064"/>
                  <a:pt x="0" y="731949"/>
                  <a:pt x="8586" y="824248"/>
                </a:cubicBezTo>
                <a:cubicBezTo>
                  <a:pt x="17172" y="916547"/>
                  <a:pt x="103031" y="1043189"/>
                  <a:pt x="188890" y="1107583"/>
                </a:cubicBezTo>
                <a:cubicBezTo>
                  <a:pt x="274749" y="1171977"/>
                  <a:pt x="429296" y="1176270"/>
                  <a:pt x="523741" y="1210614"/>
                </a:cubicBezTo>
                <a:cubicBezTo>
                  <a:pt x="618186" y="1244958"/>
                  <a:pt x="691166" y="1257837"/>
                  <a:pt x="755560" y="1313645"/>
                </a:cubicBezTo>
                <a:cubicBezTo>
                  <a:pt x="819954" y="1369454"/>
                  <a:pt x="871470" y="1491803"/>
                  <a:pt x="910107" y="1545465"/>
                </a:cubicBezTo>
                <a:cubicBezTo>
                  <a:pt x="948744" y="1599127"/>
                  <a:pt x="938011" y="1586248"/>
                  <a:pt x="987380" y="1635617"/>
                </a:cubicBezTo>
                <a:cubicBezTo>
                  <a:pt x="1036749" y="1684986"/>
                  <a:pt x="1114022" y="1811628"/>
                  <a:pt x="1206321" y="1841679"/>
                </a:cubicBezTo>
                <a:cubicBezTo>
                  <a:pt x="1298620" y="1871730"/>
                  <a:pt x="1489657" y="1822361"/>
                  <a:pt x="1541172" y="1815921"/>
                </a:cubicBezTo>
                <a:cubicBezTo>
                  <a:pt x="1592688" y="1809482"/>
                  <a:pt x="1554051" y="1806262"/>
                  <a:pt x="1515414" y="1803042"/>
                </a:cubicBezTo>
              </a:path>
            </a:pathLst>
          </a:custGeom>
          <a:noFill/>
          <a:ln w="349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8"/>
          <p:cNvSpPr/>
          <p:nvPr/>
        </p:nvSpPr>
        <p:spPr>
          <a:xfrm>
            <a:off x="2452680" y="1455840"/>
            <a:ext cx="1449360" cy="2047680"/>
          </a:xfrm>
          <a:custGeom>
            <a:avLst/>
            <a:gdLst/>
            <a:ahLst/>
            <a:rect l="l" t="t" r="r" b="b"/>
            <a:pathLst>
              <a:path w="1448873" h="2047741">
                <a:moveTo>
                  <a:pt x="444320" y="0"/>
                </a:moveTo>
                <a:cubicBezTo>
                  <a:pt x="406757" y="26831"/>
                  <a:pt x="369194" y="53662"/>
                  <a:pt x="328411" y="77273"/>
                </a:cubicBezTo>
                <a:cubicBezTo>
                  <a:pt x="287628" y="100884"/>
                  <a:pt x="253284" y="128788"/>
                  <a:pt x="199622" y="141667"/>
                </a:cubicBezTo>
                <a:cubicBezTo>
                  <a:pt x="145960" y="154546"/>
                  <a:pt x="0" y="135228"/>
                  <a:pt x="6439" y="154546"/>
                </a:cubicBezTo>
                <a:cubicBezTo>
                  <a:pt x="12878" y="173864"/>
                  <a:pt x="191037" y="223233"/>
                  <a:pt x="238259" y="257577"/>
                </a:cubicBezTo>
                <a:cubicBezTo>
                  <a:pt x="285482" y="291921"/>
                  <a:pt x="253284" y="326264"/>
                  <a:pt x="289774" y="360608"/>
                </a:cubicBezTo>
                <a:cubicBezTo>
                  <a:pt x="326264" y="394952"/>
                  <a:pt x="420709" y="399245"/>
                  <a:pt x="457199" y="463639"/>
                </a:cubicBezTo>
                <a:cubicBezTo>
                  <a:pt x="493689" y="528033"/>
                  <a:pt x="476518" y="678287"/>
                  <a:pt x="508715" y="746974"/>
                </a:cubicBezTo>
                <a:cubicBezTo>
                  <a:pt x="540912" y="815661"/>
                  <a:pt x="605306" y="817808"/>
                  <a:pt x="650382" y="875763"/>
                </a:cubicBezTo>
                <a:cubicBezTo>
                  <a:pt x="695458" y="933718"/>
                  <a:pt x="751267" y="1017431"/>
                  <a:pt x="779171" y="1094704"/>
                </a:cubicBezTo>
                <a:cubicBezTo>
                  <a:pt x="807075" y="1171977"/>
                  <a:pt x="804929" y="1279301"/>
                  <a:pt x="817808" y="1339402"/>
                </a:cubicBezTo>
                <a:cubicBezTo>
                  <a:pt x="830687" y="1399503"/>
                  <a:pt x="830686" y="1412382"/>
                  <a:pt x="856444" y="1455312"/>
                </a:cubicBezTo>
                <a:cubicBezTo>
                  <a:pt x="882202" y="1498242"/>
                  <a:pt x="938010" y="1558343"/>
                  <a:pt x="972354" y="1596980"/>
                </a:cubicBezTo>
                <a:cubicBezTo>
                  <a:pt x="1006698" y="1635617"/>
                  <a:pt x="1043188" y="1659228"/>
                  <a:pt x="1062506" y="1687132"/>
                </a:cubicBezTo>
                <a:cubicBezTo>
                  <a:pt x="1081824" y="1715036"/>
                  <a:pt x="1064653" y="1742940"/>
                  <a:pt x="1088264" y="1764405"/>
                </a:cubicBezTo>
                <a:cubicBezTo>
                  <a:pt x="1111875" y="1785870"/>
                  <a:pt x="1174123" y="1785870"/>
                  <a:pt x="1204174" y="1815921"/>
                </a:cubicBezTo>
                <a:cubicBezTo>
                  <a:pt x="1234225" y="1845972"/>
                  <a:pt x="1227785" y="1906073"/>
                  <a:pt x="1268568" y="1944710"/>
                </a:cubicBezTo>
                <a:cubicBezTo>
                  <a:pt x="1309351" y="1983347"/>
                  <a:pt x="1448873" y="2047741"/>
                  <a:pt x="1448873" y="2047741"/>
                </a:cubicBezTo>
                <a:lnTo>
                  <a:pt x="1448873" y="2047741"/>
                </a:lnTo>
              </a:path>
            </a:pathLst>
          </a:custGeom>
          <a:noFill/>
          <a:ln w="349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ight Arrow 9"/>
          <p:cNvSpPr/>
          <p:nvPr/>
        </p:nvSpPr>
        <p:spPr>
          <a:xfrm>
            <a:off x="2209680" y="2895480"/>
            <a:ext cx="762120" cy="22860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Bevel 10"/>
          <p:cNvSpPr/>
          <p:nvPr/>
        </p:nvSpPr>
        <p:spPr>
          <a:xfrm rot="21059400">
            <a:off x="836640" y="4228920"/>
            <a:ext cx="2514600" cy="1143000"/>
          </a:xfrm>
          <a:prstGeom prst="bevel">
            <a:avLst>
              <a:gd name="adj" fmla="val 9338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uphrates 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63" name="Title 1"/>
          <p:cNvSpPr/>
          <p:nvPr/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 body of water is in-between Saudi Arabia and Egyp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4040" indent="-284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Red Se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1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http://www.geointeractive.co.uk/outline%20maps/middleeastmap.gif"/>
          <p:cNvPicPr/>
          <p:nvPr/>
        </p:nvPicPr>
        <p:blipFill>
          <a:blip r:embed="rId1"/>
          <a:stretch/>
        </p:blipFill>
        <p:spPr>
          <a:xfrm>
            <a:off x="457200" y="476280"/>
            <a:ext cx="8247240" cy="5924520"/>
          </a:xfrm>
          <a:prstGeom prst="rect">
            <a:avLst/>
          </a:prstGeom>
          <a:ln w="0">
            <a:noFill/>
          </a:ln>
        </p:spPr>
      </p:pic>
      <p:sp>
        <p:nvSpPr>
          <p:cNvPr id="266" name="TextBox 7"/>
          <p:cNvSpPr/>
          <p:nvPr/>
        </p:nvSpPr>
        <p:spPr>
          <a:xfrm>
            <a:off x="5943600" y="5181480"/>
            <a:ext cx="205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deser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3"/>
          <p:cNvSpPr/>
          <p:nvPr/>
        </p:nvSpPr>
        <p:spPr>
          <a:xfrm>
            <a:off x="2514600" y="4267080"/>
            <a:ext cx="2362320" cy="1219320"/>
          </a:xfrm>
          <a:prstGeom prst="ellipse">
            <a:avLst/>
          </a:prstGeom>
          <a:solidFill>
            <a:srgbClr val="ffcc66">
              <a:alpha val="56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Bevel 4"/>
          <p:cNvSpPr/>
          <p:nvPr/>
        </p:nvSpPr>
        <p:spPr>
          <a:xfrm rot="314400">
            <a:off x="2484360" y="2271240"/>
            <a:ext cx="3089520" cy="1781280"/>
          </a:xfrm>
          <a:prstGeom prst="bevel">
            <a:avLst>
              <a:gd name="adj" fmla="val 20468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ub al Khali Des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hich bodies of water are connected by the Strait of Hormuz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The Arabian Sea and the Persian Gulf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http://www.geointeractive.co.uk/outline%20maps/middleeastmap.gif"/>
          <p:cNvPicPr/>
          <p:nvPr/>
        </p:nvPicPr>
        <p:blipFill>
          <a:blip r:embed="rId1"/>
          <a:stretch/>
        </p:blipFill>
        <p:spPr>
          <a:xfrm>
            <a:off x="457200" y="476280"/>
            <a:ext cx="8247240" cy="5924520"/>
          </a:xfrm>
          <a:prstGeom prst="rect">
            <a:avLst/>
          </a:prstGeom>
          <a:ln w="0">
            <a:noFill/>
          </a:ln>
        </p:spPr>
      </p:pic>
      <p:sp>
        <p:nvSpPr>
          <p:cNvPr id="64" name="Multiply 6"/>
          <p:cNvSpPr/>
          <p:nvPr/>
        </p:nvSpPr>
        <p:spPr>
          <a:xfrm>
            <a:off x="5791320" y="259092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43578" y="295654"/>
                </a:moveTo>
                <a:lnTo>
                  <a:pt x="295654" y="143578"/>
                </a:lnTo>
                <a:lnTo>
                  <a:pt x="457200" y="305125"/>
                </a:lnTo>
                <a:lnTo>
                  <a:pt x="618746" y="143578"/>
                </a:lnTo>
                <a:lnTo>
                  <a:pt x="770822" y="295654"/>
                </a:lnTo>
                <a:lnTo>
                  <a:pt x="609275" y="457200"/>
                </a:lnTo>
                <a:lnTo>
                  <a:pt x="770822" y="618746"/>
                </a:lnTo>
                <a:lnTo>
                  <a:pt x="618746" y="770822"/>
                </a:lnTo>
                <a:lnTo>
                  <a:pt x="457200" y="609275"/>
                </a:lnTo>
                <a:lnTo>
                  <a:pt x="295654" y="770822"/>
                </a:lnTo>
                <a:lnTo>
                  <a:pt x="143578" y="618746"/>
                </a:lnTo>
                <a:lnTo>
                  <a:pt x="305125" y="457200"/>
                </a:lnTo>
                <a:lnTo>
                  <a:pt x="143578" y="295654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5943600" y="5181480"/>
            <a:ext cx="205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the name of this count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Bevel 4"/>
          <p:cNvSpPr/>
          <p:nvPr/>
        </p:nvSpPr>
        <p:spPr>
          <a:xfrm rot="21059400">
            <a:off x="304920" y="5257440"/>
            <a:ext cx="2514600" cy="1143000"/>
          </a:xfrm>
          <a:prstGeom prst="bevel">
            <a:avLst>
              <a:gd name="adj" fmla="val 20468"/>
            </a:avLst>
          </a:prstGeom>
          <a:solidFill>
            <a:srgbClr val="ffff00">
              <a:alpha val="54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fghanis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381040"/>
          </a:xfrm>
          <a:prstGeom prst="rect">
            <a:avLst/>
          </a:prstGeom>
          <a:solidFill>
            <a:srgbClr val="ffffff"/>
          </a:solidFill>
          <a:ln w="111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 makes it possible to get to the Mediterranean Sea from the Arabian Sea without having to sail around the continent of Afric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889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The Suez Canal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5T20:22:45Z</dcterms:created>
  <dc:creator>e200702531</dc:creator>
  <dc:description/>
  <dc:language>en-US</dc:language>
  <cp:lastModifiedBy>Peets, Audrey</cp:lastModifiedBy>
  <dcterms:modified xsi:type="dcterms:W3CDTF">2012-05-29T17:53:51Z</dcterms:modified>
  <cp:revision>39</cp:revision>
  <dc:subject/>
  <dc:title>Which bodies of water are connected by the Strait of Hormuz</dc:title>
</cp:coreProperties>
</file>